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022-EF9A-4116-A4DC-48349F91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10AF-1926-4431-8FB1-EB8D7DCC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251-6DD7-4EF1-BB05-B2FCB408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9C7-82D4-44B1-811A-ECD40C5E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307-7AF5-494D-A23C-019D45E3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40E-2658-465F-A7D9-0D1C3E9E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97F-8958-489A-BD20-BBA11D8F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E7B-44AE-44E9-B406-F083E7BB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1EE-93D0-4A34-8CF8-9E5D73CD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AFF-EB9E-449B-BA64-6906DDE6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C97-62FC-481C-94A0-895B1E91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ACE-C2F6-4A87-8E7B-076F3D66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51EB-9B05-4D16-AF1C-5EB86D59D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" Target="slide11.xml"/><Relationship Id="rId18" Type="http://schemas.openxmlformats.org/officeDocument/2006/relationships/slide" Target="slide8.xml"/><Relationship Id="rId19" Type="http://schemas.openxmlformats.org/officeDocument/2006/relationships/slide" Target="slide8.xml"/><Relationship Id="rId20" Type="http://schemas.openxmlformats.org/officeDocument/2006/relationships/slide" Target="slide10.xml"/><Relationship Id="rId2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0840" y="2454120"/>
            <a:ext cx="8280360" cy="23360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СТАТИЧЕС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НЕОПРЕДЕЛИМ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260280"/>
            <a:ext cx="828036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С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ТРОИТЕЛЬНАЯ МЕХА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Ч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асть </a:t>
            </a:r>
            <a:r>
              <a:rPr b="1" lang="en-US" sz="5400" spc="-1" strike="noStrike">
                <a:solidFill>
                  <a:srgbClr val="333399"/>
                </a:solidFill>
                <a:latin typeface="New_Zelek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417240" y="176040"/>
            <a:ext cx="405000" cy="668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371520"/>
            <a:ext cx="28728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ВГ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7600" y="5146560"/>
            <a:ext cx="82803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4800" spc="-1" strike="noStrike">
                <a:solidFill>
                  <a:srgbClr val="333399"/>
                </a:solidFill>
                <a:latin typeface="Book Antiqua"/>
              </a:rPr>
              <a:t>Расчёт СНС методом си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47680" y="260280"/>
            <a:ext cx="8620200" cy="39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5600" y="3416400"/>
            <a:ext cx="8348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 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единичные перемещения в ОСМС (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мещения от едини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силовых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воздействий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646200"/>
            <a:ext cx="864216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ысл, способы определения и свойства коэффици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свободных членов КУ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1935000" y="1125360"/>
                <a:ext cx="5639040" cy="200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/>
                                <m:e/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/>
                                <m:e/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Σ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Σ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Σ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nΣ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2200320" y="1819440"/>
            <a:ext cx="2732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. . . . . . . . . . . . .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208240" y="2492280"/>
            <a:ext cx="2732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. . . . . . . . . . . . .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3000" y="3860640"/>
            <a:ext cx="872172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 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собственные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единичные перемещения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лавные коэффициенты КУМС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37960" y="4219560"/>
            <a:ext cx="72136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 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i = k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побочные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единичные перемещения в ОСМС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395440" y="4287960"/>
            <a:ext cx="10800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254240" y="5105520"/>
            <a:ext cx="2305080" cy="647640"/>
          </a:xfrm>
          <a:custGeom>
            <a:avLst/>
            <a:gdLst/>
            <a:ahLst/>
            <a:rect l="l" t="t" r="r" b="b"/>
            <a:pathLst>
              <a:path w="1452" h="408">
                <a:moveTo>
                  <a:pt x="0" y="0"/>
                </a:moveTo>
                <a:lnTo>
                  <a:pt x="1452" y="0"/>
                </a:lnTo>
                <a:lnTo>
                  <a:pt x="1452" y="4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077840" y="51055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559320" y="57765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600200" y="50673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340000" y="5116320"/>
            <a:ext cx="0" cy="360360"/>
          </a:xfrm>
          <a:prstGeom prst="line">
            <a:avLst/>
          </a:prstGeom>
          <a:ln w="28440">
            <a:solidFill>
              <a:srgbClr val="a5002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054240" y="5122800"/>
            <a:ext cx="0" cy="395280"/>
          </a:xfrm>
          <a:prstGeom prst="line">
            <a:avLst/>
          </a:prstGeom>
          <a:ln w="28440">
            <a:solidFill>
              <a:srgbClr val="a5002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565080" y="5570640"/>
            <a:ext cx="360360" cy="0"/>
          </a:xfrm>
          <a:prstGeom prst="line">
            <a:avLst/>
          </a:prstGeom>
          <a:ln w="28440">
            <a:solidFill>
              <a:srgbClr val="a5002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1267920" y="4953960"/>
            <a:ext cx="314280" cy="28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7933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79334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1691640" y="4960800"/>
            <a:ext cx="314280" cy="28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7933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79334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450800" y="521028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43080" y="546264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3800" y="550872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a50021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52720" y="545148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a50021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070600" y="5102280"/>
            <a:ext cx="2305080" cy="647640"/>
          </a:xfrm>
          <a:custGeom>
            <a:avLst/>
            <a:gdLst/>
            <a:ahLst/>
            <a:rect l="l" t="t" r="r" b="b"/>
            <a:pathLst>
              <a:path w="1452" h="408">
                <a:moveTo>
                  <a:pt x="0" y="0"/>
                </a:moveTo>
                <a:lnTo>
                  <a:pt x="1452" y="0"/>
                </a:lnTo>
                <a:lnTo>
                  <a:pt x="1452" y="4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94200" y="5102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7375680" y="57733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64000" y="50641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6713640" y="5113440"/>
            <a:ext cx="0" cy="395280"/>
          </a:xfrm>
          <a:prstGeom prst="line">
            <a:avLst/>
          </a:prstGeom>
          <a:ln w="28440">
            <a:solidFill>
              <a:srgbClr val="a5002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26080" y="5499000"/>
            <a:ext cx="7207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a50021"/>
                </a:solidFill>
                <a:latin typeface="Times New Roman"/>
              </a:rPr>
              <a:t>k</a:t>
            </a: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012000" y="4768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7183080" y="5560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67360" y="4838760"/>
            <a:ext cx="2305080" cy="907920"/>
          </a:xfrm>
          <a:custGeom>
            <a:avLst/>
            <a:gdLst/>
            <a:ahLst/>
            <a:rect l="l" t="t" r="r" b="b"/>
            <a:pathLst>
              <a:path w="1452" h="572">
                <a:moveTo>
                  <a:pt x="0" y="126"/>
                </a:moveTo>
                <a:cubicBezTo>
                  <a:pt x="17" y="119"/>
                  <a:pt x="68" y="99"/>
                  <a:pt x="102" y="84"/>
                </a:cubicBezTo>
                <a:cubicBezTo>
                  <a:pt x="136" y="69"/>
                  <a:pt x="135" y="72"/>
                  <a:pt x="204" y="36"/>
                </a:cubicBezTo>
                <a:cubicBezTo>
                  <a:pt x="309" y="21"/>
                  <a:pt x="407" y="15"/>
                  <a:pt x="507" y="9"/>
                </a:cubicBezTo>
                <a:cubicBezTo>
                  <a:pt x="609" y="4"/>
                  <a:pt x="719" y="0"/>
                  <a:pt x="816" y="3"/>
                </a:cubicBezTo>
                <a:cubicBezTo>
                  <a:pt x="913" y="6"/>
                  <a:pt x="1007" y="14"/>
                  <a:pt x="1092" y="30"/>
                </a:cubicBezTo>
                <a:cubicBezTo>
                  <a:pt x="1177" y="46"/>
                  <a:pt x="1266" y="74"/>
                  <a:pt x="1326" y="96"/>
                </a:cubicBezTo>
                <a:cubicBezTo>
                  <a:pt x="1386" y="118"/>
                  <a:pt x="1383" y="120"/>
                  <a:pt x="1452" y="162"/>
                </a:cubicBezTo>
                <a:cubicBezTo>
                  <a:pt x="1431" y="216"/>
                  <a:pt x="1428" y="219"/>
                  <a:pt x="1416" y="252"/>
                </a:cubicBezTo>
                <a:cubicBezTo>
                  <a:pt x="1404" y="285"/>
                  <a:pt x="1388" y="320"/>
                  <a:pt x="1380" y="360"/>
                </a:cubicBezTo>
                <a:cubicBezTo>
                  <a:pt x="1372" y="400"/>
                  <a:pt x="1369" y="457"/>
                  <a:pt x="1368" y="492"/>
                </a:cubicBezTo>
                <a:cubicBezTo>
                  <a:pt x="1367" y="527"/>
                  <a:pt x="1374" y="555"/>
                  <a:pt x="1376" y="57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364000" y="48610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930920" y="5103720"/>
            <a:ext cx="2449440" cy="820800"/>
          </a:xfrm>
          <a:custGeom>
            <a:avLst/>
            <a:gdLst/>
            <a:ahLst/>
            <a:rect l="l" t="t" r="r" b="b"/>
            <a:pathLst>
              <a:path w="1452" h="408">
                <a:moveTo>
                  <a:pt x="0" y="0"/>
                </a:moveTo>
                <a:lnTo>
                  <a:pt x="1452" y="0"/>
                </a:lnTo>
                <a:lnTo>
                  <a:pt x="1452" y="408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6012000" y="4855680"/>
            <a:ext cx="0" cy="2415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6711840" y="4883040"/>
            <a:ext cx="0" cy="2160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716000" y="4898880"/>
            <a:ext cx="647640" cy="86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4910040" y="5051520"/>
            <a:ext cx="133560" cy="54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245360" y="5560920"/>
            <a:ext cx="122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979640" y="4802040"/>
            <a:ext cx="122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О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М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243160" y="5348160"/>
            <a:ext cx="21600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243160" y="53481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349360" y="51768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14440" y="5310360"/>
            <a:ext cx="730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313000" y="512280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4160" y="5348160"/>
            <a:ext cx="21600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954160" y="53481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060720" y="51768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025800" y="5310360"/>
            <a:ext cx="730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024360" y="5122800"/>
            <a:ext cx="727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811680" y="5456160"/>
            <a:ext cx="71280" cy="2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811680" y="54514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3636720" y="55609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776760" y="552600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575160" y="552600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7258320" y="5772960"/>
            <a:ext cx="37440" cy="139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793760" y="4906800"/>
            <a:ext cx="576360" cy="287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765680" y="4978440"/>
            <a:ext cx="66600" cy="203040"/>
          </a:xfrm>
          <a:custGeom>
            <a:avLst/>
            <a:gdLst/>
            <a:ahLst/>
            <a:rect l="l" t="t" r="r" b="b"/>
            <a:pathLst>
              <a:path w="42" h="128">
                <a:moveTo>
                  <a:pt x="42" y="128"/>
                </a:moveTo>
                <a:lnTo>
                  <a:pt x="14" y="7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6200000">
            <a:off x="5080320" y="5701320"/>
            <a:ext cx="1584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правлени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335720" y="5307120"/>
            <a:ext cx="1584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правлени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9880" y="48610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19920" y="44226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723000" y="44830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451640" y="5562720"/>
            <a:ext cx="50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019920" y="4772160"/>
            <a:ext cx="158760" cy="234720"/>
          </a:xfrm>
          <a:custGeom>
            <a:avLst/>
            <a:gdLst/>
            <a:ahLst/>
            <a:rect l="l" t="t" r="r" b="b"/>
            <a:pathLst>
              <a:path w="100" h="148">
                <a:moveTo>
                  <a:pt x="0" y="148"/>
                </a:moveTo>
                <a:lnTo>
                  <a:pt x="48" y="104"/>
                </a:lnTo>
                <a:lnTo>
                  <a:pt x="10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718320" y="4835520"/>
            <a:ext cx="158760" cy="182520"/>
          </a:xfrm>
          <a:custGeom>
            <a:avLst/>
            <a:gdLst/>
            <a:ahLst/>
            <a:rect l="l" t="t" r="r" b="b"/>
            <a:pathLst>
              <a:path w="100" h="115">
                <a:moveTo>
                  <a:pt x="0" y="115"/>
                </a:moveTo>
                <a:lnTo>
                  <a:pt x="48" y="80"/>
                </a:lnTo>
                <a:lnTo>
                  <a:pt x="10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324560" y="5567400"/>
            <a:ext cx="193680" cy="169920"/>
          </a:xfrm>
          <a:custGeom>
            <a:avLst/>
            <a:gdLst/>
            <a:ahLst/>
            <a:rect l="l" t="t" r="r" b="b"/>
            <a:pathLst>
              <a:path w="122" h="107">
                <a:moveTo>
                  <a:pt x="0" y="0"/>
                </a:moveTo>
                <a:lnTo>
                  <a:pt x="38" y="59"/>
                </a:lnTo>
                <a:lnTo>
                  <a:pt x="122" y="10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08200" y="1217520"/>
            <a:ext cx="540000" cy="1943280"/>
          </a:xfrm>
          <a:prstGeom prst="rect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251160" y="3154320"/>
            <a:ext cx="1079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56360" y="573408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202440" y="5783400"/>
            <a:ext cx="3715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136600" y="4495680"/>
            <a:ext cx="5032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5" dur="indefinite" restart="never" nodeType="tmRoot">
          <p:childTnLst>
            <p:seq>
              <p:cTn id="2216" dur="indefinite" nodeType="mainSeq">
                <p:childTnLst>
                  <p:par>
                    <p:cTn id="2217" fill="hold">
                      <p:stCondLst>
                        <p:cond delay="0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2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8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0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3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5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0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1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2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7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8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9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4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5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6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0" fill="hold">
                            <p:stCondLst>
                              <p:cond delay="2160"/>
                            </p:stCondLst>
                            <p:childTnLst>
                              <p:par>
                                <p:cTn id="2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5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3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6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9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2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5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8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91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94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97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00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03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06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09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12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15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18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21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2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0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40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43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5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1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4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7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9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4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5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8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6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11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14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1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2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2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8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45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8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1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57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6500"/>
                            </p:stCondLst>
                            <p:childTnLst>
                              <p:par>
                                <p:cTn id="24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7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7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3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6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4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4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5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6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7" fill="hold">
                            <p:stCondLst>
                              <p:cond delay="4059"/>
                            </p:stCondLst>
                            <p:childTnLst>
                              <p:par>
                                <p:cTn id="25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4" fill="hold">
                            <p:stCondLst>
                              <p:cond delay="5060"/>
                            </p:stCondLst>
                            <p:childTnLst>
                              <p:par>
                                <p:cTn id="25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8" fill="hold">
                            <p:stCondLst>
                              <p:cond delay="6060"/>
                            </p:stCondLst>
                            <p:childTnLst>
                              <p:par>
                                <p:cTn id="25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4" fill="hold">
                            <p:stCondLst>
                              <p:cond delay="7060"/>
                            </p:stCondLst>
                            <p:childTnLst>
                              <p:par>
                                <p:cTn id="2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7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8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9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0" fill="hold">
                            <p:stCondLst>
                              <p:cond delay="7620"/>
                            </p:stCondLst>
                            <p:childTnLst>
                              <p:par>
                                <p:cTn id="25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3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9" fill="hold">
                            <p:stCondLst>
                              <p:cond delay="8620"/>
                            </p:stCondLst>
                            <p:childTnLst>
                              <p:par>
                                <p:cTn id="25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47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7680" y="260280"/>
            <a:ext cx="8620200" cy="39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55600" y="3416400"/>
            <a:ext cx="8348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 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единичные перемещения в ОСМС (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мещения от едини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силовых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воздействий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43000" y="3860640"/>
            <a:ext cx="872172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 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собственные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единичные перемещения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лавные коэффициенты КУМС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37960" y="4219560"/>
            <a:ext cx="72136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 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i = k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побочные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единичные перемещения в ОСМС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390760" y="4287960"/>
            <a:ext cx="10800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4240" y="5105520"/>
            <a:ext cx="2305080" cy="647640"/>
          </a:xfrm>
          <a:custGeom>
            <a:avLst/>
            <a:gdLst/>
            <a:ahLst/>
            <a:rect l="l" t="t" r="r" b="b"/>
            <a:pathLst>
              <a:path w="1452" h="408">
                <a:moveTo>
                  <a:pt x="0" y="0"/>
                </a:moveTo>
                <a:lnTo>
                  <a:pt x="1452" y="0"/>
                </a:lnTo>
                <a:lnTo>
                  <a:pt x="1452" y="4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077840" y="51055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559320" y="57765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600200" y="506736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2340000" y="5116320"/>
            <a:ext cx="0" cy="360360"/>
          </a:xfrm>
          <a:prstGeom prst="line">
            <a:avLst/>
          </a:prstGeom>
          <a:ln w="28440">
            <a:solidFill>
              <a:srgbClr val="a5002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3054240" y="5122800"/>
            <a:ext cx="0" cy="395280"/>
          </a:xfrm>
          <a:prstGeom prst="line">
            <a:avLst/>
          </a:prstGeom>
          <a:ln w="28440">
            <a:solidFill>
              <a:srgbClr val="a5002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3565080" y="5570640"/>
            <a:ext cx="360360" cy="0"/>
          </a:xfrm>
          <a:prstGeom prst="line">
            <a:avLst/>
          </a:prstGeom>
          <a:ln w="28440">
            <a:solidFill>
              <a:srgbClr val="a5002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1267920" y="4953960"/>
            <a:ext cx="314280" cy="28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7933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79334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1691640" y="4960800"/>
            <a:ext cx="314280" cy="28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7933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79334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450800" y="521028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143080" y="546264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863800" y="550872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a50021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852720" y="545148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a50021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070600" y="5102280"/>
            <a:ext cx="2305080" cy="647640"/>
          </a:xfrm>
          <a:custGeom>
            <a:avLst/>
            <a:gdLst/>
            <a:ahLst/>
            <a:rect l="l" t="t" r="r" b="b"/>
            <a:pathLst>
              <a:path w="1452" h="408">
                <a:moveTo>
                  <a:pt x="0" y="0"/>
                </a:moveTo>
                <a:lnTo>
                  <a:pt x="1452" y="0"/>
                </a:lnTo>
                <a:lnTo>
                  <a:pt x="1452" y="4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894200" y="5102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7375680" y="57733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364000" y="50641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012000" y="4768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7183080" y="5560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067360" y="4832280"/>
            <a:ext cx="2305080" cy="971640"/>
          </a:xfrm>
          <a:custGeom>
            <a:avLst/>
            <a:gdLst/>
            <a:ahLst/>
            <a:rect l="l" t="t" r="r" b="b"/>
            <a:pathLst>
              <a:path w="1452" h="612">
                <a:moveTo>
                  <a:pt x="0" y="130"/>
                </a:moveTo>
                <a:cubicBezTo>
                  <a:pt x="17" y="123"/>
                  <a:pt x="68" y="103"/>
                  <a:pt x="102" y="88"/>
                </a:cubicBezTo>
                <a:cubicBezTo>
                  <a:pt x="136" y="73"/>
                  <a:pt x="135" y="76"/>
                  <a:pt x="204" y="40"/>
                </a:cubicBezTo>
                <a:cubicBezTo>
                  <a:pt x="309" y="25"/>
                  <a:pt x="407" y="19"/>
                  <a:pt x="507" y="13"/>
                </a:cubicBezTo>
                <a:cubicBezTo>
                  <a:pt x="594" y="7"/>
                  <a:pt x="656" y="4"/>
                  <a:pt x="726" y="4"/>
                </a:cubicBezTo>
                <a:cubicBezTo>
                  <a:pt x="796" y="4"/>
                  <a:pt x="859" y="0"/>
                  <a:pt x="930" y="10"/>
                </a:cubicBezTo>
                <a:cubicBezTo>
                  <a:pt x="1001" y="20"/>
                  <a:pt x="1086" y="39"/>
                  <a:pt x="1152" y="64"/>
                </a:cubicBezTo>
                <a:cubicBezTo>
                  <a:pt x="1218" y="89"/>
                  <a:pt x="1276" y="131"/>
                  <a:pt x="1326" y="160"/>
                </a:cubicBezTo>
                <a:cubicBezTo>
                  <a:pt x="1376" y="189"/>
                  <a:pt x="1392" y="196"/>
                  <a:pt x="1452" y="238"/>
                </a:cubicBezTo>
                <a:cubicBezTo>
                  <a:pt x="1416" y="304"/>
                  <a:pt x="1400" y="333"/>
                  <a:pt x="1386" y="376"/>
                </a:cubicBezTo>
                <a:cubicBezTo>
                  <a:pt x="1370" y="421"/>
                  <a:pt x="1362" y="477"/>
                  <a:pt x="1356" y="508"/>
                </a:cubicBezTo>
                <a:cubicBezTo>
                  <a:pt x="1350" y="539"/>
                  <a:pt x="1351" y="547"/>
                  <a:pt x="1348" y="564"/>
                </a:cubicBezTo>
                <a:cubicBezTo>
                  <a:pt x="1345" y="581"/>
                  <a:pt x="1342" y="602"/>
                  <a:pt x="1340" y="6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486108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925880" y="5099040"/>
            <a:ext cx="2449800" cy="820800"/>
          </a:xfrm>
          <a:custGeom>
            <a:avLst/>
            <a:gdLst/>
            <a:ahLst/>
            <a:rect l="l" t="t" r="r" b="b"/>
            <a:pathLst>
              <a:path w="1452" h="408">
                <a:moveTo>
                  <a:pt x="0" y="0"/>
                </a:moveTo>
                <a:lnTo>
                  <a:pt x="1452" y="0"/>
                </a:lnTo>
                <a:lnTo>
                  <a:pt x="1452" y="408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6012000" y="4855680"/>
            <a:ext cx="0" cy="24156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6711840" y="4883040"/>
            <a:ext cx="0" cy="21600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716000" y="4898880"/>
            <a:ext cx="647640" cy="86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910040" y="5051520"/>
            <a:ext cx="133560" cy="54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7238880" y="5560920"/>
            <a:ext cx="122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79640" y="4802040"/>
            <a:ext cx="122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О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М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7160400" y="5820480"/>
            <a:ext cx="31680" cy="158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4793760" y="4906800"/>
            <a:ext cx="576360" cy="287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765680" y="4978440"/>
            <a:ext cx="66600" cy="203040"/>
          </a:xfrm>
          <a:custGeom>
            <a:avLst/>
            <a:gdLst/>
            <a:ahLst/>
            <a:rect l="l" t="t" r="r" b="b"/>
            <a:pathLst>
              <a:path w="42" h="128">
                <a:moveTo>
                  <a:pt x="42" y="128"/>
                </a:moveTo>
                <a:lnTo>
                  <a:pt x="14" y="7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335720" y="5307120"/>
            <a:ext cx="1584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правлени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589720" y="44290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5786280" y="4772160"/>
            <a:ext cx="223920" cy="215640"/>
          </a:xfrm>
          <a:custGeom>
            <a:avLst/>
            <a:gdLst/>
            <a:ahLst/>
            <a:rect l="l" t="t" r="r" b="b"/>
            <a:pathLst>
              <a:path w="100" h="148">
                <a:moveTo>
                  <a:pt x="0" y="148"/>
                </a:moveTo>
                <a:lnTo>
                  <a:pt x="48" y="104"/>
                </a:lnTo>
                <a:lnTo>
                  <a:pt x="10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507000" y="4768920"/>
            <a:ext cx="201600" cy="233280"/>
          </a:xfrm>
          <a:custGeom>
            <a:avLst/>
            <a:gdLst/>
            <a:ahLst/>
            <a:rect l="l" t="t" r="r" b="b"/>
            <a:pathLst>
              <a:path w="100" h="115">
                <a:moveTo>
                  <a:pt x="0" y="115"/>
                </a:moveTo>
                <a:lnTo>
                  <a:pt x="48" y="80"/>
                </a:lnTo>
                <a:lnTo>
                  <a:pt x="10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324560" y="5567400"/>
            <a:ext cx="193680" cy="169920"/>
          </a:xfrm>
          <a:custGeom>
            <a:avLst/>
            <a:gdLst/>
            <a:ahLst/>
            <a:rect l="l" t="t" r="r" b="b"/>
            <a:pathLst>
              <a:path w="122" h="107">
                <a:moveTo>
                  <a:pt x="0" y="0"/>
                </a:moveTo>
                <a:lnTo>
                  <a:pt x="38" y="59"/>
                </a:lnTo>
                <a:lnTo>
                  <a:pt x="122" y="107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251160" y="3154320"/>
            <a:ext cx="1079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137280" y="561672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164280" y="5680080"/>
            <a:ext cx="3715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356000" y="5157720"/>
            <a:ext cx="1513080" cy="1440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a9a90">
                  <a:alpha val="88235"/>
                </a:srgbClr>
              </a:gs>
              <a:gs pos="100000">
                <a:srgbClr val="ffffcc">
                  <a:alpha val="2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319800" y="4422600"/>
            <a:ext cx="55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94080" y="48402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713640" y="48150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rot="16200000">
            <a:off x="6096600" y="5695200"/>
            <a:ext cx="1584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правлени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424640" y="5546880"/>
            <a:ext cx="55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7164000" y="4653000"/>
            <a:ext cx="14436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242120" y="4575240"/>
            <a:ext cx="433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277040" y="5977080"/>
            <a:ext cx="216000" cy="7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277040" y="59770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rot="735600">
            <a:off x="7032600" y="6039000"/>
            <a:ext cx="216000" cy="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037280" y="6019920"/>
            <a:ext cx="21600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153200" y="605304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383600" y="598644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151760" y="6230880"/>
            <a:ext cx="2332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102440" y="6237360"/>
            <a:ext cx="503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5080320" y="5701320"/>
            <a:ext cx="1584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правлени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68360" y="6021360"/>
            <a:ext cx="4464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 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мещения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заданных воз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32360" y="5661000"/>
            <a:ext cx="504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940360" y="3154320"/>
            <a:ext cx="1079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, t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50920" y="646200"/>
            <a:ext cx="864216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ысл, способы определения и свойства коэффици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свободных членов КУ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36600" y="4495680"/>
            <a:ext cx="5032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200320" y="1819440"/>
            <a:ext cx="2732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. . . . . . . . . . . . .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08240" y="2492280"/>
            <a:ext cx="2732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. . . . . . . . . . . . .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207120" y="1217520"/>
            <a:ext cx="517680" cy="1943280"/>
          </a:xfrm>
          <a:prstGeom prst="rect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124000" y="1027080"/>
                <a:ext cx="525636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/>
                                <m:e/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/>
                                <m:e/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Σ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Σ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Σ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nΣ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4" name=""/>
          <p:cNvSpPr/>
          <p:nvPr/>
        </p:nvSpPr>
        <p:spPr>
          <a:xfrm>
            <a:off x="3508200" y="1217520"/>
            <a:ext cx="540000" cy="1943280"/>
          </a:xfrm>
          <a:prstGeom prst="rect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4" dur="indefinite" restart="never" nodeType="tmRoot">
          <p:childTnLst>
            <p:seq>
              <p:cTn id="2555" dur="indefinite" nodeType="mainSeq">
                <p:childTnLst>
                  <p:par>
                    <p:cTn id="2556" fill="hold">
                      <p:stCondLst>
                        <p:cond delay="0"/>
                      </p:stCondLst>
                      <p:childTnLst>
                        <p:par>
                          <p:cTn id="2557" fill="hold">
                            <p:stCondLst>
                              <p:cond delay="0"/>
                            </p:stCondLst>
                            <p:childTnLst>
                              <p:par>
                                <p:cTn id="25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0" dur="8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1" dur="8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2" dur="8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70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73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76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79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8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85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88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9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2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5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3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9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3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7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1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4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9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1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9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5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6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7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8" fill="hold">
                            <p:stCondLst>
                              <p:cond delay="3060"/>
                            </p:stCondLst>
                            <p:childTnLst>
                              <p:par>
                                <p:cTn id="267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8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2" fill="hold">
                            <p:stCondLst>
                              <p:cond delay="4059"/>
                            </p:stCondLst>
                            <p:childTnLst>
                              <p:par>
                                <p:cTn id="26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5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9" fill="hold">
                            <p:stCondLst>
                              <p:cond delay="5060"/>
                            </p:stCondLst>
                            <p:childTnLst>
                              <p:par>
                                <p:cTn id="26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2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6060"/>
                            </p:stCondLst>
                            <p:childTnLst>
                              <p:par>
                                <p:cTn id="26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8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9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0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fill="hold">
                            <p:stCondLst>
                              <p:cond delay="6620"/>
                            </p:stCondLst>
                            <p:childTnLst>
                              <p:par>
                                <p:cTn id="27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7620"/>
                            </p:stCondLst>
                            <p:childTnLst>
                              <p:par>
                                <p:cTn id="27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8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8620"/>
                            </p:stCondLst>
                            <p:childTnLst>
                              <p:par>
                                <p:cTn id="27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9620"/>
                            </p:stCondLst>
                            <p:childTnLst>
                              <p:par>
                                <p:cTn id="27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1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2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3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4" fill="hold">
                            <p:stCondLst>
                              <p:cond delay="10180"/>
                            </p:stCondLst>
                            <p:childTnLst>
                              <p:par>
                                <p:cTn id="27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0" fill="hold">
                            <p:stCondLst>
                              <p:cond delay="11180"/>
                            </p:stCondLst>
                            <p:childTnLst>
                              <p:par>
                                <p:cTn id="27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7" fill="hold">
                            <p:stCondLst>
                              <p:cond delay="12180"/>
                            </p:stCondLst>
                            <p:childTnLst>
                              <p:par>
                                <p:cTn id="27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40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1" fill="hold">
                            <p:stCondLst>
                              <p:cond delay="13180"/>
                            </p:stCondLst>
                            <p:childTnLst>
                              <p:par>
                                <p:cTn id="27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4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6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47680" y="260280"/>
            <a:ext cx="8620200" cy="39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57080" y="3416400"/>
            <a:ext cx="799164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 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 перемещения в ОСМС от </a:t>
            </a: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единичных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силовых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воз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200320" y="1819440"/>
            <a:ext cx="2732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. . . . . . . . . . . . .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208240" y="2492280"/>
            <a:ext cx="2732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. . . . . . . . . . . . .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251160" y="3154320"/>
            <a:ext cx="1079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57080" y="4524480"/>
            <a:ext cx="81360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 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мещения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МС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заданных произвольных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воз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207120" y="1217520"/>
            <a:ext cx="517680" cy="1943280"/>
          </a:xfrm>
          <a:prstGeom prst="rect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940360" y="3154320"/>
            <a:ext cx="1079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, t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0920" y="646200"/>
            <a:ext cx="864216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ысл, способы определения и свойства коэффици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свободных членов КУ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946080" y="3780000"/>
            <a:ext cx="360360" cy="237960"/>
          </a:xfrm>
          <a:custGeom>
            <a:avLst/>
            <a:gdLst/>
            <a:ahLst/>
            <a:rect l="l" t="t" r="r" b="b"/>
            <a:pathLst>
              <a:path w="227" h="182">
                <a:moveTo>
                  <a:pt x="0" y="0"/>
                </a:moveTo>
                <a:lnTo>
                  <a:pt x="0" y="182"/>
                </a:lnTo>
                <a:lnTo>
                  <a:pt x="227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293840" y="3763800"/>
            <a:ext cx="2232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формуле Максвелла-М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3340080" y="3625920"/>
                <a:ext cx="40402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</m:nary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8" name=""/>
          <p:cNvSpPr/>
          <p:nvPr/>
        </p:nvSpPr>
        <p:spPr>
          <a:xfrm>
            <a:off x="376200" y="3579840"/>
            <a:ext cx="385920" cy="2843280"/>
          </a:xfrm>
          <a:custGeom>
            <a:avLst/>
            <a:gdLst/>
            <a:ahLst/>
            <a:rect l="l" t="t" r="r" b="b"/>
            <a:pathLst>
              <a:path w="243" h="1791">
                <a:moveTo>
                  <a:pt x="243" y="1"/>
                </a:moveTo>
                <a:lnTo>
                  <a:pt x="0" y="0"/>
                </a:lnTo>
                <a:lnTo>
                  <a:pt x="4" y="1791"/>
                </a:lnTo>
                <a:lnTo>
                  <a:pt x="231" y="1791"/>
                </a:lnTo>
              </a:path>
            </a:pathLst>
          </a:custGeom>
          <a:noFill/>
          <a:ln w="38160">
            <a:solidFill>
              <a:srgbClr val="333399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946080" y="4871880"/>
            <a:ext cx="360360" cy="238320"/>
          </a:xfrm>
          <a:custGeom>
            <a:avLst/>
            <a:gdLst/>
            <a:ahLst/>
            <a:rect l="l" t="t" r="r" b="b"/>
            <a:pathLst>
              <a:path w="227" h="182">
                <a:moveTo>
                  <a:pt x="0" y="0"/>
                </a:moveTo>
                <a:lnTo>
                  <a:pt x="0" y="182"/>
                </a:lnTo>
                <a:lnTo>
                  <a:pt x="227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293840" y="4856040"/>
            <a:ext cx="2232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формуле Максвелла-Мо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1376280" y="4935600"/>
                <a:ext cx="73980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Δ</m:t>
                            </m:r>
                          </m:e>
                          <m:sub>
                            <m:r>
                              <m:t xml:space="preserve">iΣ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 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,t 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i 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2" name=""/>
          <p:cNvSpPr/>
          <p:nvPr/>
        </p:nvSpPr>
        <p:spPr>
          <a:xfrm>
            <a:off x="525600" y="4653000"/>
            <a:ext cx="264960" cy="1655640"/>
          </a:xfrm>
          <a:custGeom>
            <a:avLst/>
            <a:gdLst/>
            <a:ahLst/>
            <a:rect l="l" t="t" r="r" b="b"/>
            <a:pathLst>
              <a:path w="167" h="1043">
                <a:moveTo>
                  <a:pt x="167" y="3"/>
                </a:moveTo>
                <a:lnTo>
                  <a:pt x="0" y="0"/>
                </a:lnTo>
                <a:lnTo>
                  <a:pt x="2" y="1043"/>
                </a:lnTo>
                <a:lnTo>
                  <a:pt x="136" y="1043"/>
                </a:lnTo>
              </a:path>
            </a:pathLst>
          </a:custGeom>
          <a:noFill/>
          <a:ln w="38160">
            <a:solidFill>
              <a:srgbClr val="333399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74640" y="6249960"/>
            <a:ext cx="8334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озмож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о методу начальных параметров (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для балок и т.п. СНС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) и др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пособ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2124000" y="1027080"/>
                <a:ext cx="525636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/>
                                <m:e/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/>
                                <m:e/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Σ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Σ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Σ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nΣ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5" name=""/>
          <p:cNvSpPr/>
          <p:nvPr/>
        </p:nvSpPr>
        <p:spPr>
          <a:xfrm>
            <a:off x="3508200" y="1217520"/>
            <a:ext cx="540000" cy="1943280"/>
          </a:xfrm>
          <a:prstGeom prst="rect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7" dur="indefinite" restart="never" nodeType="tmRoot">
          <p:childTnLst>
            <p:seq>
              <p:cTn id="2748" dur="indefinite" nodeType="mainSeq">
                <p:childTnLst>
                  <p:par>
                    <p:cTn id="2749" fill="hold">
                      <p:stCondLst>
                        <p:cond delay="0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59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3" dur="8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4" dur="8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5" dur="8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1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8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2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6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7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8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2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7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1" dur="8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2" dur="8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3" dur="80"/>
                                        <p:tgtEl>
                                          <p:spTgt spid="7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4" fill="hold">
                            <p:stCondLst>
                              <p:cond delay="3760"/>
                            </p:stCondLst>
                            <p:childTnLst>
                              <p:par>
                                <p:cTn id="280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07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47680" y="260280"/>
            <a:ext cx="8620200" cy="39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19240" y="1654200"/>
            <a:ext cx="871200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1.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 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 главные коэффициенты (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обственные единичные переме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 ОСМС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 – </a:t>
            </a: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существенно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50920" y="646200"/>
            <a:ext cx="864216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ысл, способы определения и свойства коэффици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свободных членов КУ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3478320" y="3957480"/>
                <a:ext cx="47689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</m:nary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2535120" y="1268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войства коэффициентов КУМ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2760" y="2222640"/>
            <a:ext cx="875196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.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бочные коэффициенты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бочные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единичные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мещения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МС</a:t>
            </a:r>
            <a:r>
              <a:rPr b="1" lang="ru-RU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попарно</a:t>
            </a:r>
            <a:r>
              <a:rPr b="1" lang="ru-RU" sz="14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ра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 теореме Максвелла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 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 = 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 могут быть положительны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рицательными и равным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;  </a:t>
            </a:r>
            <a:r>
              <a:rPr b="1" i="1" lang="ru-RU" sz="1800" spc="-1" strike="noStrike">
                <a:solidFill>
                  <a:srgbClr val="333399"/>
                </a:solidFill>
                <a:latin typeface="Arial Narrow"/>
              </a:rPr>
              <a:t>следствие</a:t>
            </a:r>
            <a:r>
              <a:rPr b="1" i="1" lang="ru-RU" sz="10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атрица внешней податливости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симме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ична относительно главной диагон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5156280" y="2522160"/>
            <a:ext cx="10800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12760" y="3290760"/>
            <a:ext cx="7238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атрица коэффициентов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– положительно определённая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7380360" y="3024360"/>
                <a:ext cx="15256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6" name=""/>
          <p:cNvSpPr/>
          <p:nvPr/>
        </p:nvSpPr>
        <p:spPr>
          <a:xfrm>
            <a:off x="2556000" y="3619440"/>
            <a:ext cx="40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и коэффициентов КУМ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4127400"/>
            <a:ext cx="30240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а) универсальная (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сех коэффициентов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402080" y="39704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Black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3495600" y="4816440"/>
                <a:ext cx="50371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</m:nary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s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684360" y="4998960"/>
            <a:ext cx="302400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б) построчная (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оэффициентов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го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У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054320" y="48546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Black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24000" y="5753160"/>
            <a:ext cx="8496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,s 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Arial Narrow"/>
              </a:rPr>
              <a:t>суммарные единичны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иловые факторы (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нутренние усилия и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пругих связей в суммарном единичном состоянии ОСМ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одновременно действующих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 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 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8" dur="indefinite" restart="never" nodeType="tmRoot">
          <p:childTnLst>
            <p:seq>
              <p:cTn id="2809" dur="indefinite" nodeType="mainSeq">
                <p:childTnLst>
                  <p:par>
                    <p:cTn id="2810" fill="hold">
                      <p:stCondLst>
                        <p:cond delay="0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4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9" dur="8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0" dur="8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1" dur="8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fill="hold">
                      <p:stCondLst>
                        <p:cond delay="indefinite"/>
                      </p:stCondLst>
                      <p:childTnLst>
                        <p:par>
                          <p:cTn id="2823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6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7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8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1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2" fill="hold">
                      <p:stCondLst>
                        <p:cond delay="indefinite"/>
                      </p:stCondLst>
                      <p:childTnLst>
                        <p:par>
                          <p:cTn id="2833" fill="hold">
                            <p:stCondLst>
                              <p:cond delay="0"/>
                            </p:stCondLst>
                            <p:childTnLst>
                              <p:par>
                                <p:cTn id="28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6" dur="8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7" dur="8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8" dur="8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9" fill="hold">
                            <p:stCondLst>
                              <p:cond delay="2360"/>
                            </p:stCondLst>
                            <p:childTnLst>
                              <p:par>
                                <p:cTn id="28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2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4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1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5" dur="8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6" dur="8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7" dur="8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8" fill="hold">
                            <p:stCondLst>
                              <p:cond delay="2760"/>
                            </p:stCondLst>
                            <p:childTnLst>
                              <p:par>
                                <p:cTn id="285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61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2" fill="hold">
                            <p:stCondLst>
                              <p:cond delay="4760"/>
                            </p:stCondLst>
                            <p:childTnLst>
                              <p:par>
                                <p:cTn id="28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5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6" fill="hold">
                      <p:stCondLst>
                        <p:cond delay="indefinite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0" dur="80"/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1" dur="80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2" dur="80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3" fill="hold">
                            <p:stCondLst>
                              <p:cond delay="1720"/>
                            </p:stCondLst>
                            <p:childTnLst>
                              <p:par>
                                <p:cTn id="28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76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3720"/>
                            </p:stCondLst>
                            <p:childTnLst>
                              <p:par>
                                <p:cTn id="28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0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5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6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7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47680" y="260280"/>
            <a:ext cx="8620200" cy="39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50920" y="646200"/>
            <a:ext cx="864216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ысл, способы определения и свойства коэффици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 свободных членов КУ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411280" y="126828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войство свободных членов КУМ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330200" y="1700280"/>
            <a:ext cx="6481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мещения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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МС</a:t>
            </a:r>
            <a:r>
              <a:rPr b="1" lang="ru-RU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заданных воздействий могут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ложительными, отрицательными и равным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се свободные члены не должны быть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одновременно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нулев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40000" y="278604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ка свободных членов КУМ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1763640" y="3281400"/>
                <a:ext cx="5523120" cy="18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iΣ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Δ</m:t>
                            </m:r>
                          </m:e>
                          <m:sub>
                            <m:r>
                              <m:t xml:space="preserve">sΣ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s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F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,t 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0" name=""/>
          <p:cNvSpPr/>
          <p:nvPr/>
        </p:nvSpPr>
        <p:spPr>
          <a:xfrm>
            <a:off x="2398680" y="3319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Black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8" dur="indefinite" restart="never" nodeType="tmRoot">
          <p:childTnLst>
            <p:seq>
              <p:cTn id="2889" dur="indefinite" nodeType="mainSeq">
                <p:childTnLst>
                  <p:par>
                    <p:cTn id="2890" fill="hold">
                      <p:stCondLst>
                        <p:cond delay="0"/>
                      </p:stCondLst>
                      <p:childTnLst>
                        <p:par>
                          <p:cTn id="2891" fill="hold">
                            <p:stCondLst>
                              <p:cond delay="0"/>
                            </p:stCondLst>
                            <p:childTnLst>
                              <p:par>
                                <p:cTn id="28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4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6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0" dur="8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1" dur="8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2" dur="8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11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47680" y="260280"/>
            <a:ext cx="8620200" cy="39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50920" y="646200"/>
            <a:ext cx="864216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ределение основных неизвестных и искомых усил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рассчитываемой  СНС.  Проверка результатов расчё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7280" y="12812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ешение КУМ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852640" y="24987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иловые факторы в РС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1784520" y="1230480"/>
                <a:ext cx="56671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Σ 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et</m:t>
                                </m:r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</m:t>
                                    </m:r>
                                  </m:e>
                                </m:d>
                              </m:den>
                            </m:f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 </m:t>
                                </m:r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  <m:r>
                                        <m:t xml:space="preserve">…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,</m:t>
                                          </m:r>
                                          <m:r>
                                            <m:t xml:space="preserve"> 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t xml:space="preserve">(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Σ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,</m:t>
                                          </m:r>
                                          <m:r>
                                            <m:t xml:space="preserve"> 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…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…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 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t xml:space="preserve">(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nΣ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 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…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nn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  <m:r>
                                  <m:t xml:space="preserve"> </m:t>
                                </m:r>
                              </m:e>
                            </m:d>
                            <m:r>
                              <m:t xml:space="preserve"> 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7" name=""/>
          <p:cNvSpPr/>
          <p:nvPr/>
        </p:nvSpPr>
        <p:spPr>
          <a:xfrm>
            <a:off x="971640" y="2819520"/>
            <a:ext cx="180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а р и а н т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50920" y="4379760"/>
            <a:ext cx="1512720" cy="1297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a9a90">
                  <a:alpha val="88235"/>
                </a:srgbClr>
              </a:gs>
              <a:gs pos="100000">
                <a:srgbClr val="ffffcc">
                  <a:alpha val="2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2576160" y="3857760"/>
            <a:ext cx="14436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684520" y="5006880"/>
            <a:ext cx="21600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684520" y="50068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rot="735600">
            <a:off x="2440080" y="5068800"/>
            <a:ext cx="21564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444760" y="5049720"/>
            <a:ext cx="21600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560680" y="50832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790720" y="501660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558880" y="5261040"/>
            <a:ext cx="23364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509920" y="5267160"/>
            <a:ext cx="503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14320" y="4862520"/>
            <a:ext cx="504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82760" y="4282920"/>
            <a:ext cx="2304720" cy="508320"/>
          </a:xfrm>
          <a:custGeom>
            <a:avLst/>
            <a:gdLst/>
            <a:ahLst/>
            <a:rect l="l" t="t" r="r" b="b"/>
            <a:pathLst>
              <a:path w="1452" h="408">
                <a:moveTo>
                  <a:pt x="0" y="0"/>
                </a:moveTo>
                <a:lnTo>
                  <a:pt x="1452" y="0"/>
                </a:lnTo>
                <a:lnTo>
                  <a:pt x="1452" y="4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06360" y="42829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787480" y="4824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28720" y="42451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282760" y="4300560"/>
            <a:ext cx="0" cy="395280"/>
          </a:xfrm>
          <a:prstGeom prst="line">
            <a:avLst/>
          </a:prstGeom>
          <a:ln w="28440">
            <a:solidFill>
              <a:srgbClr val="a5002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2793600" y="4659480"/>
            <a:ext cx="360360" cy="0"/>
          </a:xfrm>
          <a:prstGeom prst="line">
            <a:avLst/>
          </a:prstGeom>
          <a:ln w="28440">
            <a:solidFill>
              <a:srgbClr val="a5002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092320" y="468648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a50021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43280" y="435780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a50021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208160" y="3979800"/>
            <a:ext cx="122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О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М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1568520" y="4293720"/>
            <a:ext cx="0" cy="360360"/>
          </a:xfrm>
          <a:prstGeom prst="line">
            <a:avLst/>
          </a:prstGeom>
          <a:ln w="28440">
            <a:solidFill>
              <a:srgbClr val="a5002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96440" y="4131720"/>
            <a:ext cx="314280" cy="28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7933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79334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 flipV="1">
            <a:off x="920160" y="4137840"/>
            <a:ext cx="314280" cy="28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7933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79334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79320" y="438768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371600" y="464040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639880" y="3794040"/>
            <a:ext cx="433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42800" y="3108240"/>
            <a:ext cx="27352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Расчёт основной системы на заданные воздействия и найденные 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неизвестны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695760" y="2820960"/>
            <a:ext cx="180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а р и а н т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205080" y="3110040"/>
            <a:ext cx="27352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спользование ранее у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пределённых уси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 единичных состоя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СМС и от заданных воздействи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3394080" y="4025880"/>
                <a:ext cx="23828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8" name=""/>
          <p:cNvSpPr/>
          <p:nvPr/>
        </p:nvSpPr>
        <p:spPr>
          <a:xfrm>
            <a:off x="3263760" y="291780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3327480" y="4672080"/>
                <a:ext cx="662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3360600" y="1832040"/>
            <a:ext cx="3745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. . . . . . . . . . . . . . . . .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867280" y="294156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43640" y="2814480"/>
            <a:ext cx="180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а р и а н т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940360" y="3116160"/>
            <a:ext cx="28796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Для сист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 преобладающим изгиб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рам, балок и др.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053040" y="3691080"/>
                <a:ext cx="27082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5" name=""/>
          <p:cNvSpPr/>
          <p:nvPr/>
        </p:nvSpPr>
        <p:spPr>
          <a:xfrm flipH="1" flipV="1">
            <a:off x="4452840" y="4584600"/>
            <a:ext cx="1447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87760" y="4768920"/>
            <a:ext cx="1079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 flipV="1">
            <a:off x="7235640" y="422424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270920" y="4421160"/>
            <a:ext cx="10792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151680" y="4327560"/>
            <a:ext cx="215640" cy="504720"/>
          </a:xfrm>
          <a:prstGeom prst="downArrow">
            <a:avLst>
              <a:gd name="adj1" fmla="val 50000"/>
              <a:gd name="adj2" fmla="val 58514"/>
            </a:avLst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6121440" y="4738680"/>
                <a:ext cx="11145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1" name=""/>
          <p:cNvSpPr/>
          <p:nvPr/>
        </p:nvSpPr>
        <p:spPr>
          <a:xfrm rot="16200000">
            <a:off x="7400880" y="478476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736040" y="48625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140600" y="5216400"/>
            <a:ext cx="17272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з условий рав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овесия уз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635280" y="5643720"/>
            <a:ext cx="1873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П р и м е ч а н и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76280" y="5851440"/>
            <a:ext cx="83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 случае использования </a:t>
            </a:r>
            <a:r>
              <a:rPr b="1" i="1" lang="ru-RU" sz="1800" spc="-1" strike="noStrike">
                <a:solidFill>
                  <a:srgbClr val="333399"/>
                </a:solidFill>
                <a:latin typeface="Arial Narrow"/>
              </a:rPr>
              <a:t>статически определимой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основной системы (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усилия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ей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температурных и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инематических воздействий не возникают, то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 вариантах 2 и 3 вместо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используютс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6" dur="indefinite" restart="never" nodeType="tmRoot">
          <p:childTnLst>
            <p:seq>
              <p:cTn id="2917" dur="indefinite" nodeType="mainSeq">
                <p:childTnLst>
                  <p:par>
                    <p:cTn id="2918" fill="hold">
                      <p:stCondLst>
                        <p:cond delay="0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7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8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9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3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5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8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0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1" fill="hold">
                      <p:stCondLst>
                        <p:cond delay="indefinite"/>
                      </p:stCondLst>
                      <p:childTnLst>
                        <p:par>
                          <p:cTn id="2942" fill="hold">
                            <p:stCondLst>
                              <p:cond delay="0"/>
                            </p:stCondLst>
                            <p:childTnLst>
                              <p:par>
                                <p:cTn id="2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5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6" fill="hold">
                      <p:stCondLst>
                        <p:cond delay="indefinite"/>
                      </p:stCondLst>
                      <p:childTnLst>
                        <p:par>
                          <p:cTn id="2947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0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1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2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6" dur="8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7" dur="8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8" dur="8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9" fill="hold">
                            <p:stCondLst>
                              <p:cond delay="3920"/>
                            </p:stCondLst>
                            <p:childTnLst>
                              <p:par>
                                <p:cTn id="29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62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65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68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71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74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77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80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83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86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89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92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95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98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01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04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07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10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13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16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19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22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25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28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1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4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7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7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3" dur="8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4" dur="8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5" dur="8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6" fill="hold">
                            <p:stCondLst>
                              <p:cond delay="4440"/>
                            </p:stCondLst>
                            <p:childTnLst>
                              <p:par>
                                <p:cTn id="30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9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1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5440"/>
                            </p:stCondLst>
                            <p:childTnLst>
                              <p:par>
                                <p:cTn id="30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65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6440"/>
                            </p:stCondLst>
                            <p:childTnLst>
                              <p:par>
                                <p:cTn id="30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9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2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8" dur="8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9" dur="8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0" dur="8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1" fill="hold">
                            <p:stCondLst>
                              <p:cond delay="2840"/>
                            </p:stCondLst>
                            <p:childTnLst>
                              <p:par>
                                <p:cTn id="30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6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3840"/>
                            </p:stCondLst>
                            <p:childTnLst>
                              <p:par>
                                <p:cTn id="30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0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8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9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0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13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4" fill="hold">
                      <p:stCondLst>
                        <p:cond delay="indefinite"/>
                      </p:stCondLst>
                      <p:childTnLst>
                        <p:par>
                          <p:cTn id="3115" fill="hold">
                            <p:stCondLst>
                              <p:cond delay="0"/>
                            </p:stCondLst>
                            <p:childTnLst>
                              <p:par>
                                <p:cTn id="3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8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9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0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3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7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8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9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0" fill="hold">
                      <p:stCondLst>
                        <p:cond delay="indefinite"/>
                      </p:stCondLst>
                      <p:childTnLst>
                        <p:par>
                          <p:cTn id="3131" fill="hold">
                            <p:stCondLst>
                              <p:cond delay="0"/>
                            </p:stCondLst>
                            <p:childTnLst>
                              <p:par>
                                <p:cTn id="3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4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5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6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0" dur="8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1" dur="8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2" dur="8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47680" y="260280"/>
            <a:ext cx="8620200" cy="39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535040" y="717480"/>
            <a:ext cx="60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ерка результатов расчёта СНС методом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4268880" y="3178080"/>
                <a:ext cx="425124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s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,t 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0" name=""/>
          <p:cNvSpPr/>
          <p:nvPr/>
        </p:nvSpPr>
        <p:spPr>
          <a:xfrm>
            <a:off x="7770960" y="39085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Black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124000" y="1268280"/>
            <a:ext cx="2448000" cy="216000"/>
          </a:xfrm>
          <a:custGeom>
            <a:avLst/>
            <a:gdLst/>
            <a:ahLst/>
            <a:rect l="l" t="t" r="r" b="b"/>
            <a:pathLst>
              <a:path w="1950" h="272">
                <a:moveTo>
                  <a:pt x="1950" y="0"/>
                </a:moveTo>
                <a:lnTo>
                  <a:pt x="1950" y="136"/>
                </a:lnTo>
                <a:lnTo>
                  <a:pt x="0" y="136"/>
                </a:lnTo>
                <a:lnTo>
                  <a:pt x="0" y="2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90400" y="1484280"/>
            <a:ext cx="3095640" cy="3225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атическая провер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04960" y="1808280"/>
            <a:ext cx="0" cy="1295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rot="16200000">
            <a:off x="-115920" y="2263680"/>
            <a:ext cx="13683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равнов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04960" y="2095560"/>
            <a:ext cx="179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04960" y="3103560"/>
            <a:ext cx="179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04960" y="2600280"/>
            <a:ext cx="179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936720" y="1973160"/>
            <a:ext cx="210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системы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969840" y="2463840"/>
            <a:ext cx="824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у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944640" y="2981160"/>
            <a:ext cx="226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отсечённых ча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4572000" y="1270080"/>
            <a:ext cx="2448000" cy="216000"/>
          </a:xfrm>
          <a:custGeom>
            <a:avLst/>
            <a:gdLst/>
            <a:ahLst/>
            <a:rect l="l" t="t" r="r" b="b"/>
            <a:pathLst>
              <a:path w="1950" h="272">
                <a:moveTo>
                  <a:pt x="1950" y="0"/>
                </a:moveTo>
                <a:lnTo>
                  <a:pt x="1950" y="136"/>
                </a:lnTo>
                <a:lnTo>
                  <a:pt x="0" y="136"/>
                </a:lnTo>
                <a:lnTo>
                  <a:pt x="0" y="2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638680" y="1484280"/>
            <a:ext cx="2737080" cy="672840"/>
          </a:xfrm>
          <a:prstGeom prst="rect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инема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формационна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067280" y="1841400"/>
            <a:ext cx="4740120" cy="4683240"/>
          </a:xfrm>
          <a:custGeom>
            <a:avLst/>
            <a:gdLst/>
            <a:ahLst/>
            <a:rect l="l" t="t" r="r" b="b"/>
            <a:pathLst>
              <a:path w="2986" h="2814">
                <a:moveTo>
                  <a:pt x="994" y="0"/>
                </a:moveTo>
                <a:lnTo>
                  <a:pt x="0" y="2"/>
                </a:lnTo>
                <a:lnTo>
                  <a:pt x="0" y="2814"/>
                </a:lnTo>
                <a:lnTo>
                  <a:pt x="2978" y="2812"/>
                </a:lnTo>
                <a:lnTo>
                  <a:pt x="2986" y="4"/>
                </a:lnTo>
                <a:lnTo>
                  <a:pt x="2725" y="2"/>
                </a:lnTo>
              </a:path>
            </a:pathLst>
          </a:custGeom>
          <a:noFill/>
          <a:ln w="93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021200" y="2205000"/>
            <a:ext cx="47530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ущно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онтроль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ыполнения исход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условия кинематической эквивален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РСНС и ОСМС (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оэтому кинематическая проверка – 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главная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в методе сил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162240" y="2062080"/>
            <a:ext cx="144360" cy="115272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rot="16200000">
            <a:off x="3011760" y="2306160"/>
            <a:ext cx="12938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айд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силиях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691160" y="3022560"/>
            <a:ext cx="3456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ниверсальная провер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716360" y="4741920"/>
            <a:ext cx="3456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стные провер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4048200" y="4919760"/>
                <a:ext cx="4771800" cy="16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,t 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7062840" y="56498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Black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050920" y="3475080"/>
            <a:ext cx="2016360" cy="144360"/>
          </a:xfrm>
          <a:custGeom>
            <a:avLst/>
            <a:gdLst/>
            <a:ahLst/>
            <a:rect l="l" t="t" r="r" b="b"/>
            <a:pathLst>
              <a:path w="1270" h="136">
                <a:moveTo>
                  <a:pt x="1270" y="0"/>
                </a:moveTo>
                <a:lnTo>
                  <a:pt x="0" y="0"/>
                </a:lnTo>
                <a:lnTo>
                  <a:pt x="0" y="136"/>
                </a:lnTo>
              </a:path>
            </a:pathLst>
          </a:custGeom>
          <a:noFill/>
          <a:ln w="28440">
            <a:solidFill>
              <a:srgbClr val="a50021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09560" y="3627360"/>
            <a:ext cx="2664000" cy="4230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окращённый вариант кинематической прове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363600" y="4240080"/>
                <a:ext cx="359100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el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s</m:t>
                                    </m:r>
                                  </m:sub>
                                </m:sSub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>
            <a:off x="552600" y="4046400"/>
            <a:ext cx="3024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Универсальная проверк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39640" y="5457960"/>
            <a:ext cx="30243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Частные проверк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587520" y="5622840"/>
                <a:ext cx="298764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el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sub>
                                  <m:sup/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S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i</m:t>
                                    </m:r>
                                  </m:sub>
                                </m:sSub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c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7" name=""/>
          <p:cNvSpPr/>
          <p:nvPr/>
        </p:nvSpPr>
        <p:spPr>
          <a:xfrm>
            <a:off x="1042920" y="47991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Black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36480" y="60768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 Black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3" dur="indefinite" restart="never" nodeType="tmRoot">
          <p:childTnLst>
            <p:seq>
              <p:cTn id="3144" dur="indefinite" nodeType="mainSeq">
                <p:childTnLst>
                  <p:par>
                    <p:cTn id="3145" fill="hold">
                      <p:stCondLst>
                        <p:cond delay="0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9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3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4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5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0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64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67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8" fill="hold">
                      <p:stCondLst>
                        <p:cond delay="indefinite"/>
                      </p:stCondLst>
                      <p:childTnLst>
                        <p:par>
                          <p:cTn id="3169" fill="hold">
                            <p:stCondLst>
                              <p:cond delay="0"/>
                            </p:stCondLst>
                            <p:childTnLst>
                              <p:par>
                                <p:cTn id="3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2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4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7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9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3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4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5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9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0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5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6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7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1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3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7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9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3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4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5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9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1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5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6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7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8" fill="hold">
                      <p:stCondLst>
                        <p:cond delay="indefinite"/>
                      </p:stCondLst>
                      <p:childTnLst>
                        <p:par>
                          <p:cTn id="3229" fill="hold">
                            <p:stCondLst>
                              <p:cond delay="0"/>
                            </p:stCondLst>
                            <p:childTnLst>
                              <p:par>
                                <p:cTn id="32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3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6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7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8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9" fill="hold">
                      <p:stCondLst>
                        <p:cond delay="indefinite"/>
                      </p:stCondLst>
                      <p:childTnLst>
                        <p:par>
                          <p:cTn id="3240" fill="hold">
                            <p:stCondLst>
                              <p:cond delay="0"/>
                            </p:stCondLst>
                            <p:childTnLst>
                              <p:par>
                                <p:cTn id="3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3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4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5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49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53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4" fill="hold">
                      <p:stCondLst>
                        <p:cond delay="indefinite"/>
                      </p:stCondLst>
                      <p:childTnLst>
                        <p:par>
                          <p:cTn id="3255" fill="hold">
                            <p:stCondLst>
                              <p:cond delay="0"/>
                            </p:stCondLst>
                            <p:childTnLst>
                              <p:par>
                                <p:cTn id="3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8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9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0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63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67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2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3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78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3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4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5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89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4" fill="hold">
                      <p:stCondLst>
                        <p:cond delay="indefinite"/>
                      </p:stCondLst>
                      <p:childTnLst>
                        <p:par>
                          <p:cTn id="3295" fill="hold">
                            <p:stCondLst>
                              <p:cond delay="0"/>
                            </p:stCondLst>
                            <p:childTnLst>
                              <p:par>
                                <p:cTn id="3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9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4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8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878544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ru-RU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70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и выбрать «Перейти к слайду 16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 Что принимается за основные неизвестные в методе сил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( 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 Что такое основная система метода сил (ОСМС)?   Является ли обязательным треб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ние геометрической неизменяемости ОСМС?  А статической определимости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( 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 Какую роль играет основная система в расчёте СНС методом сил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( 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 Сколько различных вариантов ОСМС может быть предложено для расчёта некотор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нной СНС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( 3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 Рекомендации по выбору рационального варианта ОСМС, их смысл и эффект от 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ализаци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( 3 )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 Каковы особенности ОСМС при удалении лишних связей: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местах расположения упругих опор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( 5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местах, где заданы кинематические воздействия (смещения связей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 Какие условия (требования) положены в основу вывода уравнений метода сил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( 4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 Каковы по изначальному смыслу канонические уравнения метода сил (КУМС)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атические, кинематические или физические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( 4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9.  Варианты записи канонических уравнений метода си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в обычной форме – компактное и развёрнутое представления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( 7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в матричной форме – поэлементная и укрупнённая записи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( 8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. Раскрыть смыс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системы КУМС в целом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( 7 )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произвольного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го) канонического уравнения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4" action="ppaction://hlinksldjump"/>
              </a:rPr>
              <a:t>( 7 )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левой част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го канонического уравнения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5" action="ppaction://hlinksldjump"/>
              </a:rPr>
              <a:t>( 7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) свободного члена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го канонического уравнения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t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c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6" action="ppaction://hlinksldjump"/>
              </a:rPr>
              <a:t>( 7 ),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7" action="ppaction://hlinksldjump"/>
              </a:rPr>
              <a:t>( 10 )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) слагаемого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8" action="ppaction://hlinksldjump"/>
              </a:rPr>
              <a:t>( 7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е) коэффициента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9" action="ppaction://hlinksldjump"/>
              </a:rPr>
              <a:t>( 7 ),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0" action="ppaction://hlinksldjump"/>
              </a:rPr>
              <a:t>( 9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называется и какой смысл имеет матрица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коэффициентов КУМС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8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7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74600" y="193680"/>
            <a:ext cx="8785080" cy="652464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57120" y="63565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/>
          </p:nvPr>
        </p:nvSpPr>
        <p:spPr>
          <a:xfrm>
            <a:off x="179280" y="234720"/>
            <a:ext cx="8785440" cy="66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ru-RU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70000"/>
              </a:lnSpc>
              <a:spcBef>
                <a:spcPts val="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и выбрать «Перейти к слайду 17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2. Как называются и какой смысл имеют коэффициенты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 Коэффициенты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9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означить на схеме ОСМС и истолковать смысл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по заданию) и/или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3. Свойства компонентов матрицы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  Теорема о взаимности единичных перемещений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ЛДС (теорема Максвелла).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( 1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4. Какой должна быть сумма компонентов матрицы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положительной, отрицательно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вной 0, любой?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( 12 )</a:t>
            </a:r>
            <a:r>
              <a:rPr b="0" i="1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. Способы определения коэффициентов и свободных членов КУМС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( 11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6. Формулы для вычисления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t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c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общем случае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( 12 )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7. Как выполняются универсальная и построчная проверки коэффициентов КУМС?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( 1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8. Свойства свободных членов канонических уравнений. Как проверяется прави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числения свободных членов КУМС при разных видах воздействий (силов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мпературном, кинематическом)?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( 13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9. Почему канонические уравнения метода сил являются разрешающими уравне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чи расчёта СНС (синтезом статической, геометрической и физической сто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чи)?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– см. лекцию «Смешанный метод расчёта СНС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. Как  после вычисления основных неизвестных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решения КУМС) определя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комые силовые факторы в заданной СНС (3 варианта)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4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1. Особенности вычисления искомых силовых факторов при температур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здействиях и смещениях связей в случае использования статически определим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новной системы МС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4 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. Полная проверка результатов расчета СНС методом сил, ее составные части.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5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3. Какая из частей полной проверки результатов расчета – статическая или кинемат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ская – является главной и почему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5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4. Содержание и приемы статической проверки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5 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 Могут ли выполняться услов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вновесия при наличии ошибок (каких?) в решении задач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5. Сущность и техника выполнения кинематической (деформационной) про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зультатов расчета СНС методом сил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5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74600" y="193680"/>
            <a:ext cx="8785080" cy="6524640"/>
          </a:xfrm>
          <a:prstGeom prst="rect">
            <a:avLst/>
          </a:prstGeom>
          <a:noFill/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5280" y="6453360"/>
            <a:ext cx="431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393840"/>
            <a:ext cx="8353440" cy="1765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 Black"/>
              </a:rPr>
              <a:t>Метод с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расчёта статически неопределимых сист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тором основными неизвестными явл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 Black"/>
              </a:rPr>
              <a:t>реакции лишних связе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ные силовые фактор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2880" y="3106800"/>
            <a:ext cx="8569440" cy="20862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 Black"/>
              </a:rPr>
              <a:t>Основная система метода с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метрически неизменяемая и, как правило, статически определимая система, получаемая 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читываемой СНС путём удаления лишних свя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приложением вместо них  реакций этих свя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х неизвестных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289240"/>
            <a:ext cx="806472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значение основных неизвестных метода си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3520" y="624348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ОСМС – расчётная (физическая) модель задачи определения усилий в СНС методом сил.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52560" y="5286240"/>
            <a:ext cx="3600720" cy="36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03520" y="5321160"/>
            <a:ext cx="64101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СМС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 =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РСНС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–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ЛС + </a:t>
            </a:r>
            <a:r>
              <a:rPr b="1" i="1" lang="ru-RU" sz="2400" spc="-1" strike="noStrike">
                <a:solidFill>
                  <a:srgbClr val="a50021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СНС 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ассчитываемая статически неопределимая систе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С –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лишние связи;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новные неизвест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02040" y="2467080"/>
            <a:ext cx="1441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22760" y="21668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2930400"/>
            <a:ext cx="136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3160" y="2925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40600" y="2925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91440" y="2816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96040" y="3090960"/>
            <a:ext cx="210960" cy="288720"/>
          </a:xfrm>
          <a:prstGeom prst="downArrow">
            <a:avLst>
              <a:gd name="adj1" fmla="val 50000"/>
              <a:gd name="adj2" fmla="val 47901"/>
            </a:avLst>
          </a:prstGeom>
          <a:solidFill>
            <a:srgbClr val="969696"/>
          </a:solid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1330560" y="2878920"/>
            <a:ext cx="324000" cy="9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52680" y="275904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19360" y="2997360"/>
            <a:ext cx="73080" cy="326880"/>
          </a:xfrm>
          <a:custGeom>
            <a:avLst/>
            <a:gdLst/>
            <a:ahLst/>
            <a:rect l="l" t="t" r="r" b="b"/>
            <a:pathLst>
              <a:path w="1" h="227">
                <a:moveTo>
                  <a:pt x="0" y="0"/>
                </a:moveTo>
                <a:lnTo>
                  <a:pt x="0" y="22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70400" y="295920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49800" y="3290760"/>
            <a:ext cx="323640" cy="1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9160" y="329580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0400" y="323532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443640" y="4183200"/>
            <a:ext cx="0" cy="39528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364440" y="3470400"/>
            <a:ext cx="0" cy="395280"/>
          </a:xfrm>
          <a:prstGeom prst="line">
            <a:avLst/>
          </a:prstGeom>
          <a:ln w="57240">
            <a:solidFill>
              <a:srgbClr val="8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327720" y="5108400"/>
            <a:ext cx="17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318360" y="4967280"/>
            <a:ext cx="17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51520" y="3381480"/>
            <a:ext cx="517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22760" y="2552760"/>
            <a:ext cx="0" cy="403236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56680" y="5421240"/>
            <a:ext cx="842508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734040" y="4164480"/>
            <a:ext cx="2233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  и  н  е  й  н  ы 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-157680" y="583128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гл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98720" y="2098800"/>
            <a:ext cx="5149800" cy="77760"/>
          </a:xfrm>
          <a:custGeom>
            <a:avLst/>
            <a:gdLst/>
            <a:ahLst/>
            <a:rect l="l" t="t" r="r" b="b"/>
            <a:pathLst>
              <a:path w="3480" h="180">
                <a:moveTo>
                  <a:pt x="0" y="0"/>
                </a:moveTo>
                <a:lnTo>
                  <a:pt x="0" y="180"/>
                </a:lnTo>
                <a:lnTo>
                  <a:pt x="3480" y="180"/>
                </a:lnTo>
                <a:lnTo>
                  <a:pt x="348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1040" y="342000"/>
            <a:ext cx="8496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ИЗОБРАЖЕНИЕ НА СХЕМЕ ОСНО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ОСНОВНЫХ НЕИЗВЕСТНЫХ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Х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зличных удаляемых лишних связей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х и внутренних, линейных и угл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8000" y="155592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У  д  а  л  я  е  м  ы  е       с  в  я  з 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82640" y="2224800"/>
            <a:ext cx="59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 н  е  ш  н  и  е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н у т р е н н и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46240" y="293040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09720" y="2925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40360" y="292248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4760" y="292572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8160" y="292248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79920" y="40258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37360" y="40258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40273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45080" y="402732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62640" y="388764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3640" y="38847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62720" y="4245120"/>
            <a:ext cx="517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73800" y="503568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30880" y="50356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08520" y="503712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5037120"/>
            <a:ext cx="61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4560" y="5037120"/>
            <a:ext cx="395280" cy="0"/>
          </a:xfrm>
          <a:prstGeom prst="line">
            <a:avLst/>
          </a:prstGeom>
          <a:ln w="57240">
            <a:solidFill>
              <a:srgbClr val="8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21360" y="5037120"/>
            <a:ext cx="395280" cy="0"/>
          </a:xfrm>
          <a:prstGeom prst="line">
            <a:avLst/>
          </a:prstGeom>
          <a:ln w="57240">
            <a:solidFill>
              <a:srgbClr val="8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24520" y="4614840"/>
            <a:ext cx="5176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54880" y="4614840"/>
            <a:ext cx="5173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36880" y="433692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43322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0640" y="432900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57720" y="4834080"/>
            <a:ext cx="323640" cy="107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67080" y="483876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22600" y="4430880"/>
            <a:ext cx="0" cy="395280"/>
          </a:xfrm>
          <a:prstGeom prst="line">
            <a:avLst/>
          </a:prstGeom>
          <a:ln w="57240">
            <a:solidFill>
              <a:srgbClr val="800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522600" y="3921120"/>
            <a:ext cx="0" cy="39528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0760" y="3770280"/>
            <a:ext cx="5176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4408560"/>
            <a:ext cx="5173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09920" y="3503520"/>
            <a:ext cx="211320" cy="289080"/>
          </a:xfrm>
          <a:prstGeom prst="downArrow">
            <a:avLst>
              <a:gd name="adj1" fmla="val 50000"/>
              <a:gd name="adj2" fmla="val 47879"/>
            </a:avLst>
          </a:prstGeom>
          <a:solidFill>
            <a:srgbClr val="969696"/>
          </a:solid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34080" y="604980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92880" y="604512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49960" y="60451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45360" y="5985000"/>
            <a:ext cx="125280" cy="125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99080" y="5837400"/>
            <a:ext cx="179640" cy="395280"/>
          </a:xfrm>
          <a:custGeom>
            <a:avLst/>
            <a:gdLst/>
            <a:ahLst/>
            <a:rect l="l" t="t" r="r" b="b"/>
            <a:pathLst>
              <a:path w="148" h="398">
                <a:moveTo>
                  <a:pt x="118" y="398"/>
                </a:moveTo>
                <a:cubicBezTo>
                  <a:pt x="106" y="386"/>
                  <a:pt x="54" y="356"/>
                  <a:pt x="35" y="323"/>
                </a:cubicBezTo>
                <a:cubicBezTo>
                  <a:pt x="16" y="290"/>
                  <a:pt x="0" y="240"/>
                  <a:pt x="2" y="199"/>
                </a:cubicBezTo>
                <a:cubicBezTo>
                  <a:pt x="4" y="158"/>
                  <a:pt x="26" y="108"/>
                  <a:pt x="50" y="75"/>
                </a:cubicBezTo>
                <a:cubicBezTo>
                  <a:pt x="74" y="42"/>
                  <a:pt x="128" y="16"/>
                  <a:pt x="148" y="0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37280" y="5832360"/>
            <a:ext cx="179280" cy="395280"/>
          </a:xfrm>
          <a:custGeom>
            <a:avLst/>
            <a:gdLst/>
            <a:ahLst/>
            <a:rect l="l" t="t" r="r" b="b"/>
            <a:pathLst>
              <a:path w="148" h="398">
                <a:moveTo>
                  <a:pt x="118" y="398"/>
                </a:moveTo>
                <a:cubicBezTo>
                  <a:pt x="106" y="386"/>
                  <a:pt x="54" y="356"/>
                  <a:pt x="35" y="323"/>
                </a:cubicBezTo>
                <a:cubicBezTo>
                  <a:pt x="16" y="290"/>
                  <a:pt x="0" y="240"/>
                  <a:pt x="2" y="199"/>
                </a:cubicBezTo>
                <a:cubicBezTo>
                  <a:pt x="4" y="158"/>
                  <a:pt x="26" y="108"/>
                  <a:pt x="50" y="75"/>
                </a:cubicBezTo>
                <a:cubicBezTo>
                  <a:pt x="74" y="42"/>
                  <a:pt x="128" y="16"/>
                  <a:pt x="148" y="0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55800" y="3165480"/>
            <a:ext cx="210960" cy="289080"/>
          </a:xfrm>
          <a:prstGeom prst="downArrow">
            <a:avLst>
              <a:gd name="adj1" fmla="val 50000"/>
              <a:gd name="adj2" fmla="val 47961"/>
            </a:avLst>
          </a:prstGeom>
          <a:solidFill>
            <a:srgbClr val="969696"/>
          </a:solid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1334160" y="3943800"/>
            <a:ext cx="323640" cy="9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55920" y="382428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23960" y="39909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81400" y="398772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28640" y="382428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630440" y="4160880"/>
            <a:ext cx="0" cy="39528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554120" y="3430440"/>
            <a:ext cx="0" cy="395280"/>
          </a:xfrm>
          <a:prstGeom prst="line">
            <a:avLst/>
          </a:prstGeom>
          <a:ln w="57240">
            <a:solidFill>
              <a:srgbClr val="800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97240" y="500364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73320" y="50036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1345320" y="6030000"/>
            <a:ext cx="324000" cy="90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66720" y="591012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58800" y="607680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92200" y="60739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00120" y="6012000"/>
            <a:ext cx="125640" cy="125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58880" y="5877000"/>
            <a:ext cx="179280" cy="395280"/>
          </a:xfrm>
          <a:custGeom>
            <a:avLst/>
            <a:gdLst/>
            <a:ahLst/>
            <a:rect l="l" t="t" r="r" b="b"/>
            <a:pathLst>
              <a:path w="148" h="398">
                <a:moveTo>
                  <a:pt x="118" y="398"/>
                </a:moveTo>
                <a:cubicBezTo>
                  <a:pt x="106" y="386"/>
                  <a:pt x="54" y="356"/>
                  <a:pt x="35" y="323"/>
                </a:cubicBezTo>
                <a:cubicBezTo>
                  <a:pt x="16" y="290"/>
                  <a:pt x="0" y="240"/>
                  <a:pt x="2" y="199"/>
                </a:cubicBezTo>
                <a:cubicBezTo>
                  <a:pt x="4" y="158"/>
                  <a:pt x="26" y="108"/>
                  <a:pt x="50" y="75"/>
                </a:cubicBezTo>
                <a:cubicBezTo>
                  <a:pt x="74" y="42"/>
                  <a:pt x="128" y="16"/>
                  <a:pt x="148" y="0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5244800">
            <a:off x="1346040" y="5665680"/>
            <a:ext cx="216000" cy="447480"/>
          </a:xfrm>
          <a:custGeom>
            <a:avLst/>
            <a:gdLst/>
            <a:ahLst/>
            <a:rect l="l" t="t" r="r" b="b"/>
            <a:pathLst>
              <a:path w="136" h="282">
                <a:moveTo>
                  <a:pt x="54" y="282"/>
                </a:moveTo>
                <a:cubicBezTo>
                  <a:pt x="64" y="274"/>
                  <a:pt x="101" y="251"/>
                  <a:pt x="114" y="228"/>
                </a:cubicBezTo>
                <a:cubicBezTo>
                  <a:pt x="127" y="205"/>
                  <a:pt x="136" y="172"/>
                  <a:pt x="132" y="144"/>
                </a:cubicBezTo>
                <a:cubicBezTo>
                  <a:pt x="128" y="116"/>
                  <a:pt x="112" y="84"/>
                  <a:pt x="90" y="60"/>
                </a:cubicBezTo>
                <a:cubicBezTo>
                  <a:pt x="68" y="36"/>
                  <a:pt x="19" y="12"/>
                  <a:pt x="0" y="0"/>
                </a:cubicBezTo>
              </a:path>
            </a:pathLst>
          </a:custGeom>
          <a:noFill/>
          <a:ln w="57240">
            <a:solidFill>
              <a:srgbClr val="800000"/>
            </a:solidFill>
            <a:prstDash val="sysDot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01600" y="4788000"/>
            <a:ext cx="432000" cy="431640"/>
          </a:xfrm>
          <a:custGeom>
            <a:avLst/>
            <a:gdLst/>
            <a:ahLst/>
            <a:rect l="l" t="t" r="r" b="b"/>
            <a:pathLst>
              <a:path w="317" h="272">
                <a:moveTo>
                  <a:pt x="1" y="266"/>
                </a:moveTo>
                <a:lnTo>
                  <a:pt x="0" y="0"/>
                </a:lnTo>
                <a:lnTo>
                  <a:pt x="317" y="0"/>
                </a:lnTo>
                <a:lnTo>
                  <a:pt x="317" y="91"/>
                </a:lnTo>
                <a:lnTo>
                  <a:pt x="90" y="91"/>
                </a:lnTo>
                <a:lnTo>
                  <a:pt x="90" y="181"/>
                </a:lnTo>
                <a:lnTo>
                  <a:pt x="317" y="181"/>
                </a:lnTo>
                <a:lnTo>
                  <a:pt x="317" y="272"/>
                </a:lnTo>
                <a:lnTo>
                  <a:pt x="0" y="272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4788000"/>
            <a:ext cx="324000" cy="431640"/>
          </a:xfrm>
          <a:custGeom>
            <a:avLst/>
            <a:gdLst/>
            <a:ahLst/>
            <a:rect l="l" t="t" r="r" b="b"/>
            <a:pathLst>
              <a:path w="227" h="272">
                <a:moveTo>
                  <a:pt x="227" y="0"/>
                </a:moveTo>
                <a:lnTo>
                  <a:pt x="227" y="91"/>
                </a:lnTo>
                <a:lnTo>
                  <a:pt x="0" y="91"/>
                </a:lnTo>
                <a:lnTo>
                  <a:pt x="0" y="181"/>
                </a:lnTo>
                <a:lnTo>
                  <a:pt x="227" y="181"/>
                </a:lnTo>
                <a:lnTo>
                  <a:pt x="227" y="2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269720" y="5008680"/>
            <a:ext cx="485640" cy="0"/>
          </a:xfrm>
          <a:prstGeom prst="line">
            <a:avLst/>
          </a:prstGeom>
          <a:ln w="57240">
            <a:solidFill>
              <a:srgbClr val="8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2240" y="5003640"/>
            <a:ext cx="432000" cy="0"/>
          </a:xfrm>
          <a:prstGeom prst="line">
            <a:avLst/>
          </a:prstGeom>
          <a:ln w="57240">
            <a:solidFill>
              <a:srgbClr val="800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54160" y="3290760"/>
            <a:ext cx="5173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38360" y="4216320"/>
            <a:ext cx="5173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4600" y="4600440"/>
            <a:ext cx="5173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552920"/>
            <a:ext cx="5173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00080" y="5489640"/>
            <a:ext cx="5176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79480" y="5613480"/>
            <a:ext cx="5176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19760" y="5603760"/>
            <a:ext cx="5176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27960" y="5603760"/>
            <a:ext cx="5173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1400" y="3405240"/>
            <a:ext cx="0" cy="31687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8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7680" y="260280"/>
            <a:ext cx="8620200" cy="39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Выбор основной системы метода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692280"/>
            <a:ext cx="8496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Для одной и той же рассчитываемой статически неопределимой системы (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РСНС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) возможно бесчисленное множество вариантов основной системы метода сил (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ОСМС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6200" y="1684440"/>
            <a:ext cx="863640" cy="1081080"/>
          </a:xfrm>
          <a:custGeom>
            <a:avLst/>
            <a:gdLst/>
            <a:ahLst/>
            <a:rect l="l" t="t" r="r" b="b"/>
            <a:pathLst>
              <a:path w="544" h="681">
                <a:moveTo>
                  <a:pt x="0" y="681"/>
                </a:moveTo>
                <a:lnTo>
                  <a:pt x="0" y="0"/>
                </a:lnTo>
                <a:lnTo>
                  <a:pt x="544" y="0"/>
                </a:lnTo>
                <a:lnTo>
                  <a:pt x="544" y="68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09840" y="2117880"/>
            <a:ext cx="720720" cy="647640"/>
          </a:xfrm>
          <a:custGeom>
            <a:avLst/>
            <a:gdLst/>
            <a:ahLst/>
            <a:rect l="l" t="t" r="r" b="b"/>
            <a:pathLst>
              <a:path w="454" h="408">
                <a:moveTo>
                  <a:pt x="0" y="0"/>
                </a:moveTo>
                <a:lnTo>
                  <a:pt x="454" y="0"/>
                </a:lnTo>
                <a:lnTo>
                  <a:pt x="454" y="4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2765520"/>
            <a:ext cx="216000" cy="7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2765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0040" y="2765520"/>
            <a:ext cx="216000" cy="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00040" y="2765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25800" y="2765520"/>
            <a:ext cx="215640" cy="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655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272736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38240" y="164628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47880" y="207792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2836800"/>
            <a:ext cx="172872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32040" y="1684440"/>
            <a:ext cx="863640" cy="1081080"/>
          </a:xfrm>
          <a:custGeom>
            <a:avLst/>
            <a:gdLst/>
            <a:ahLst/>
            <a:rect l="l" t="t" r="r" b="b"/>
            <a:pathLst>
              <a:path w="544" h="681">
                <a:moveTo>
                  <a:pt x="0" y="681"/>
                </a:moveTo>
                <a:lnTo>
                  <a:pt x="0" y="0"/>
                </a:lnTo>
                <a:lnTo>
                  <a:pt x="544" y="0"/>
                </a:lnTo>
                <a:lnTo>
                  <a:pt x="544" y="68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5680" y="2117880"/>
            <a:ext cx="720720" cy="647640"/>
          </a:xfrm>
          <a:custGeom>
            <a:avLst/>
            <a:gdLst/>
            <a:ahLst/>
            <a:rect l="l" t="t" r="r" b="b"/>
            <a:pathLst>
              <a:path w="454" h="408">
                <a:moveTo>
                  <a:pt x="0" y="0"/>
                </a:moveTo>
                <a:lnTo>
                  <a:pt x="454" y="0"/>
                </a:lnTo>
                <a:lnTo>
                  <a:pt x="454" y="4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5840" y="2978280"/>
            <a:ext cx="215640" cy="7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25840" y="29782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86240" y="2765520"/>
            <a:ext cx="215640" cy="7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86240" y="27655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164628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3720" y="207792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21120" y="1684440"/>
            <a:ext cx="863640" cy="1081080"/>
          </a:xfrm>
          <a:custGeom>
            <a:avLst/>
            <a:gdLst/>
            <a:ahLst/>
            <a:rect l="l" t="t" r="r" b="b"/>
            <a:pathLst>
              <a:path w="544" h="681">
                <a:moveTo>
                  <a:pt x="0" y="681"/>
                </a:moveTo>
                <a:lnTo>
                  <a:pt x="0" y="0"/>
                </a:lnTo>
                <a:lnTo>
                  <a:pt x="544" y="0"/>
                </a:lnTo>
                <a:lnTo>
                  <a:pt x="544" y="68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84760" y="2117880"/>
            <a:ext cx="720720" cy="647640"/>
          </a:xfrm>
          <a:custGeom>
            <a:avLst/>
            <a:gdLst/>
            <a:ahLst/>
            <a:rect l="l" t="t" r="r" b="b"/>
            <a:pathLst>
              <a:path w="454" h="408">
                <a:moveTo>
                  <a:pt x="0" y="0"/>
                </a:moveTo>
                <a:lnTo>
                  <a:pt x="454" y="0"/>
                </a:lnTo>
                <a:lnTo>
                  <a:pt x="454" y="4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14920" y="2765520"/>
            <a:ext cx="216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4920" y="2765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75320" y="2765520"/>
            <a:ext cx="216000" cy="7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75320" y="2765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00720" y="2765520"/>
            <a:ext cx="216000" cy="7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2765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6200" y="272736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13520" y="1646280"/>
            <a:ext cx="727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22800" y="2077920"/>
            <a:ext cx="73080" cy="73080"/>
          </a:xfrm>
          <a:prstGeom prst="ellipse">
            <a:avLst/>
          </a:prstGeom>
          <a:solidFill>
            <a:srgbClr val="e2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08760" y="1684440"/>
            <a:ext cx="863640" cy="1081080"/>
          </a:xfrm>
          <a:custGeom>
            <a:avLst/>
            <a:gdLst/>
            <a:ahLst/>
            <a:rect l="l" t="t" r="r" b="b"/>
            <a:pathLst>
              <a:path w="544" h="681">
                <a:moveTo>
                  <a:pt x="0" y="681"/>
                </a:moveTo>
                <a:lnTo>
                  <a:pt x="0" y="0"/>
                </a:lnTo>
                <a:lnTo>
                  <a:pt x="544" y="0"/>
                </a:lnTo>
                <a:lnTo>
                  <a:pt x="544" y="68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72400" y="2117880"/>
            <a:ext cx="720720" cy="647640"/>
          </a:xfrm>
          <a:custGeom>
            <a:avLst/>
            <a:gdLst/>
            <a:ahLst/>
            <a:rect l="l" t="t" r="r" b="b"/>
            <a:pathLst>
              <a:path w="454" h="408">
                <a:moveTo>
                  <a:pt x="0" y="0"/>
                </a:moveTo>
                <a:lnTo>
                  <a:pt x="454" y="0"/>
                </a:lnTo>
                <a:lnTo>
                  <a:pt x="454" y="4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02560" y="2765520"/>
            <a:ext cx="215640" cy="71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02560" y="27655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62960" y="2765520"/>
            <a:ext cx="215640" cy="7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2960" y="27655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8360" y="2765520"/>
            <a:ext cx="216000" cy="7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8360" y="2765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73840" y="272736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00800" y="164628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10440" y="207792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8613800">
            <a:off x="1578960" y="1370160"/>
            <a:ext cx="477720" cy="216000"/>
          </a:xfrm>
          <a:prstGeom prst="leftArrow">
            <a:avLst>
              <a:gd name="adj1" fmla="val 50000"/>
              <a:gd name="adj2" fmla="val 55292"/>
            </a:avLst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32040" y="280656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97120" y="294012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93880" y="273996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2978280"/>
            <a:ext cx="216000" cy="71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11640" y="2978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17840" y="280656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2920" y="294012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0040" y="2739960"/>
            <a:ext cx="727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5160" y="2733840"/>
            <a:ext cx="730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70600" y="164772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732800" y="164772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453520" y="207972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71280" y="2768760"/>
            <a:ext cx="360360" cy="0"/>
          </a:xfrm>
          <a:prstGeom prst="line">
            <a:avLst/>
          </a:prstGeom>
          <a:ln w="28440">
            <a:solidFill>
              <a:srgbClr val="a5002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082920" y="2114640"/>
            <a:ext cx="252360" cy="0"/>
          </a:xfrm>
          <a:prstGeom prst="line">
            <a:avLst/>
          </a:prstGeom>
          <a:ln w="28440">
            <a:solidFill>
              <a:srgbClr val="a5002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778360" y="2114640"/>
            <a:ext cx="25272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024600" y="1829880"/>
            <a:ext cx="0" cy="289080"/>
          </a:xfrm>
          <a:prstGeom prst="line">
            <a:avLst/>
          </a:prstGeom>
          <a:ln w="28440">
            <a:solidFill>
              <a:srgbClr val="a50021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7680" y="2120760"/>
            <a:ext cx="0" cy="289080"/>
          </a:xfrm>
          <a:prstGeom prst="line">
            <a:avLst/>
          </a:prstGeom>
          <a:ln w="28440">
            <a:solidFill>
              <a:srgbClr val="a50021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89520" y="2771640"/>
            <a:ext cx="288720" cy="0"/>
          </a:xfrm>
          <a:prstGeom prst="line">
            <a:avLst/>
          </a:prstGeom>
          <a:ln w="28440">
            <a:solidFill>
              <a:srgbClr val="a5002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164480" y="2439000"/>
            <a:ext cx="284760" cy="28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4"/>
                </a:moveTo>
                <a:arcTo wR="10800" hR="10800" stAng="-10344863" swAng="10859501"/>
                <a:lnTo>
                  <a:pt x="10800" y="10800"/>
                </a:lnTo>
                <a:close/>
              </a:path>
              <a:path fill="none" w="21600" h="21600">
                <a:moveTo>
                  <a:pt x="95" y="9374"/>
                </a:moveTo>
                <a:arcTo wR="10800" hR="10800" stAng="-10344863" swAng="10859501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537880" y="2432880"/>
            <a:ext cx="284760" cy="28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4"/>
                </a:moveTo>
                <a:arcTo wR="10800" hR="10800" stAng="-10344863" swAng="10859501"/>
                <a:lnTo>
                  <a:pt x="10800" y="10800"/>
                </a:lnTo>
                <a:close/>
              </a:path>
              <a:path fill="none" w="21600" h="21600">
                <a:moveTo>
                  <a:pt x="95" y="9374"/>
                </a:moveTo>
                <a:arcTo wR="10800" hR="10800" stAng="-10344863" swAng="10859501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 rot="15812400">
            <a:off x="7459560" y="1554840"/>
            <a:ext cx="253440" cy="25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4"/>
                </a:moveTo>
                <a:arcTo wR="10800" hR="10800" stAng="-10344863" swAng="10859501"/>
                <a:lnTo>
                  <a:pt x="10800" y="10800"/>
                </a:lnTo>
                <a:close/>
              </a:path>
              <a:path fill="none" w="21600" h="21600">
                <a:moveTo>
                  <a:pt x="95" y="9374"/>
                </a:moveTo>
                <a:arcTo wR="10800" hR="10800" stAng="-10344863" swAng="10859501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 rot="11463000">
            <a:off x="6741000" y="1737000"/>
            <a:ext cx="253080" cy="25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4"/>
                </a:moveTo>
                <a:arcTo wR="10800" hR="10800" stAng="-10344863" swAng="10859501"/>
                <a:lnTo>
                  <a:pt x="10800" y="10800"/>
                </a:lnTo>
                <a:close/>
              </a:path>
              <a:path fill="none" w="21600" h="21600">
                <a:moveTo>
                  <a:pt x="95" y="9374"/>
                </a:moveTo>
                <a:arcTo wR="10800" hR="10800" stAng="-10344863" swAng="10859501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 rot="10368600">
            <a:off x="7677000" y="1741320"/>
            <a:ext cx="253080" cy="25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4"/>
                </a:moveTo>
                <a:arcTo wR="10800" hR="10800" stAng="-10344863" swAng="10859501"/>
                <a:lnTo>
                  <a:pt x="10800" y="10800"/>
                </a:lnTo>
                <a:close/>
              </a:path>
              <a:path fill="none" w="21600" h="21600">
                <a:moveTo>
                  <a:pt x="95" y="9374"/>
                </a:moveTo>
                <a:arcTo wR="10800" hR="10800" stAng="-10344863" swAng="10859501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 rot="15812400">
            <a:off x="8173080" y="1987560"/>
            <a:ext cx="253080" cy="25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4"/>
                </a:moveTo>
                <a:arcTo wR="10800" hR="10800" stAng="-10344863" swAng="10859501"/>
                <a:lnTo>
                  <a:pt x="10800" y="10800"/>
                </a:lnTo>
                <a:close/>
              </a:path>
              <a:path fill="none" w="21600" h="21600">
                <a:moveTo>
                  <a:pt x="95" y="9374"/>
                </a:moveTo>
                <a:arcTo wR="10800" hR="10800" stAng="-10344863" swAng="10859501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flipV="1" rot="10368600">
            <a:off x="8389800" y="2174760"/>
            <a:ext cx="253080" cy="25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4"/>
                </a:moveTo>
                <a:arcTo wR="10800" hR="10800" stAng="-10344863" swAng="10859501"/>
                <a:lnTo>
                  <a:pt x="10800" y="10800"/>
                </a:lnTo>
                <a:close/>
              </a:path>
              <a:path fill="none" w="21600" h="21600">
                <a:moveTo>
                  <a:pt x="95" y="9374"/>
                </a:moveTo>
                <a:arcTo wR="10800" hR="10800" stAng="-10344863" swAng="10859501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 rot="5635800">
            <a:off x="6966720" y="1555200"/>
            <a:ext cx="253080" cy="25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4"/>
                </a:moveTo>
                <a:arcTo wR="10800" hR="10800" stAng="-10344863" swAng="10859501"/>
                <a:lnTo>
                  <a:pt x="10800" y="10800"/>
                </a:lnTo>
                <a:close/>
              </a:path>
              <a:path fill="none" w="21600" h="21600">
                <a:moveTo>
                  <a:pt x="95" y="9374"/>
                </a:moveTo>
                <a:arcTo wR="10800" hR="10800" stAng="-10344863" swAng="10859501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0200" y="264960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79920" y="264780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6040" y="234000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45280" y="233676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64240" y="213660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1160" y="159552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22880" y="181620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15160" y="239220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23160" y="179856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67760" y="180180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94600" y="223344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805080" y="1857240"/>
            <a:ext cx="1513080" cy="7923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6797160" y="2020680"/>
            <a:ext cx="1800360" cy="647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08760" y="3068640"/>
            <a:ext cx="863640" cy="1081080"/>
          </a:xfrm>
          <a:custGeom>
            <a:avLst/>
            <a:gdLst/>
            <a:ahLst/>
            <a:rect l="l" t="t" r="r" b="b"/>
            <a:pathLst>
              <a:path w="544" h="681">
                <a:moveTo>
                  <a:pt x="0" y="681"/>
                </a:moveTo>
                <a:lnTo>
                  <a:pt x="0" y="0"/>
                </a:lnTo>
                <a:lnTo>
                  <a:pt x="544" y="0"/>
                </a:lnTo>
                <a:lnTo>
                  <a:pt x="544" y="68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72400" y="3502080"/>
            <a:ext cx="720720" cy="647640"/>
          </a:xfrm>
          <a:custGeom>
            <a:avLst/>
            <a:gdLst/>
            <a:ahLst/>
            <a:rect l="l" t="t" r="r" b="b"/>
            <a:pathLst>
              <a:path w="454" h="408">
                <a:moveTo>
                  <a:pt x="0" y="0"/>
                </a:moveTo>
                <a:lnTo>
                  <a:pt x="454" y="0"/>
                </a:lnTo>
                <a:lnTo>
                  <a:pt x="454" y="4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02560" y="4149720"/>
            <a:ext cx="215640" cy="71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02560" y="4149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62960" y="4149720"/>
            <a:ext cx="215640" cy="71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62960" y="4149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88360" y="4149720"/>
            <a:ext cx="216000" cy="712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8360" y="4149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73840" y="411156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00800" y="303048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10440" y="3462480"/>
            <a:ext cx="730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70600" y="3032280"/>
            <a:ext cx="730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738920" y="410832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53520" y="346392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 rot="11463000">
            <a:off x="6741000" y="3121200"/>
            <a:ext cx="253080" cy="25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4"/>
                </a:moveTo>
                <a:arcTo wR="10800" hR="10800" stAng="-10344863" swAng="10859501"/>
                <a:lnTo>
                  <a:pt x="10800" y="10800"/>
                </a:lnTo>
                <a:close/>
              </a:path>
              <a:path fill="none" w="21600" h="21600">
                <a:moveTo>
                  <a:pt x="95" y="9374"/>
                </a:moveTo>
                <a:arcTo wR="10800" hR="10800" stAng="-10344863" swAng="10859501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 rot="15812400">
            <a:off x="8173080" y="3372120"/>
            <a:ext cx="253080" cy="25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4"/>
                </a:moveTo>
                <a:arcTo wR="10800" hR="10800" stAng="-10344863" swAng="10859501"/>
                <a:lnTo>
                  <a:pt x="10800" y="10800"/>
                </a:lnTo>
                <a:close/>
              </a:path>
              <a:path fill="none" w="21600" h="21600">
                <a:moveTo>
                  <a:pt x="95" y="9374"/>
                </a:moveTo>
                <a:arcTo wR="10800" hR="10800" stAng="-10344863" swAng="10859501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 rot="10368600">
            <a:off x="8389800" y="3558960"/>
            <a:ext cx="253080" cy="25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4"/>
                </a:moveTo>
                <a:arcTo wR="10800" hR="10800" stAng="-10344863" swAng="10859501"/>
                <a:lnTo>
                  <a:pt x="10800" y="10800"/>
                </a:lnTo>
                <a:close/>
              </a:path>
              <a:path fill="none" w="21600" h="21600">
                <a:moveTo>
                  <a:pt x="95" y="9374"/>
                </a:moveTo>
                <a:arcTo wR="10800" hR="10800" stAng="-10344863" swAng="10859501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 rot="5635800">
            <a:off x="6966720" y="2939760"/>
            <a:ext cx="253080" cy="25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4"/>
                </a:moveTo>
                <a:arcTo wR="10800" hR="10800" stAng="-10344863" swAng="10859501"/>
                <a:lnTo>
                  <a:pt x="10800" y="10800"/>
                </a:lnTo>
                <a:close/>
              </a:path>
              <a:path fill="none" w="21600" h="21600">
                <a:moveTo>
                  <a:pt x="95" y="9374"/>
                </a:moveTo>
                <a:arcTo wR="10800" hR="10800" stAng="-10344863" swAng="10859501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15240" y="317664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12040" y="371304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088480" y="361944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951680" y="14842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ГИС</a:t>
            </a: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59520" y="1701720"/>
            <a:ext cx="768600" cy="82800"/>
          </a:xfrm>
          <a:custGeom>
            <a:avLst/>
            <a:gdLst/>
            <a:ahLst/>
            <a:rect l="l" t="t" r="r" b="b"/>
            <a:pathLst>
              <a:path w="484" h="52">
                <a:moveTo>
                  <a:pt x="0" y="0"/>
                </a:moveTo>
                <a:lnTo>
                  <a:pt x="236" y="52"/>
                </a:lnTo>
                <a:lnTo>
                  <a:pt x="484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612560" y="3800160"/>
            <a:ext cx="284760" cy="280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" y="9374"/>
                </a:moveTo>
                <a:arcTo wR="10800" hR="10800" stAng="-10344863" swAng="10859501"/>
                <a:lnTo>
                  <a:pt x="10800" y="10800"/>
                </a:lnTo>
                <a:close/>
              </a:path>
              <a:path fill="none" w="21600" h="21600">
                <a:moveTo>
                  <a:pt x="95" y="9374"/>
                </a:moveTo>
                <a:arcTo wR="10800" hR="10800" stAng="-10344863" swAng="10859501"/>
              </a:path>
            </a:pathLst>
          </a:custGeom>
          <a:noFill/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74680" y="3594240"/>
            <a:ext cx="46800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Рекомендации по рациональному выбо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основной системы М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0040" y="4772160"/>
            <a:ext cx="87346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Нежелательно удалять линейные связи, особенно внешние.  Предпочтитель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далени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угловы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связей 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ведение цилиндрических шарниров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7160" y="4168800"/>
            <a:ext cx="643248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Основная система должна по возможности минима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личаться по общему характеру своей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 рассчитываемой СН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5360" y="5227560"/>
            <a:ext cx="8667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Для упрощения расчёта лучше выбирать основную систему с максима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стой структурой 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сли возможно, то с главными и второстепе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астями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5360" y="5886360"/>
            <a:ext cx="866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Связи целесообразно удалять в узлах системы 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ключая опорные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5360" y="6151680"/>
            <a:ext cx="866772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Если рассчитываемая СНС симметричная, то выгодно выбир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мметричную основную сист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591240" y="2859120"/>
            <a:ext cx="2156040" cy="1577880"/>
          </a:xfrm>
          <a:custGeom>
            <a:avLst/>
            <a:gdLst/>
            <a:ahLst/>
            <a:rect l="l" t="t" r="r" b="b"/>
            <a:pathLst>
              <a:path w="1358" h="994">
                <a:moveTo>
                  <a:pt x="240" y="971"/>
                </a:moveTo>
                <a:cubicBezTo>
                  <a:pt x="168" y="953"/>
                  <a:pt x="99" y="946"/>
                  <a:pt x="60" y="875"/>
                </a:cubicBezTo>
                <a:cubicBezTo>
                  <a:pt x="21" y="804"/>
                  <a:pt x="12" y="659"/>
                  <a:pt x="6" y="545"/>
                </a:cubicBezTo>
                <a:cubicBezTo>
                  <a:pt x="0" y="431"/>
                  <a:pt x="0" y="274"/>
                  <a:pt x="24" y="191"/>
                </a:cubicBezTo>
                <a:cubicBezTo>
                  <a:pt x="48" y="108"/>
                  <a:pt x="83" y="78"/>
                  <a:pt x="150" y="47"/>
                </a:cubicBezTo>
                <a:cubicBezTo>
                  <a:pt x="217" y="16"/>
                  <a:pt x="295" y="10"/>
                  <a:pt x="426" y="5"/>
                </a:cubicBezTo>
                <a:cubicBezTo>
                  <a:pt x="557" y="0"/>
                  <a:pt x="803" y="3"/>
                  <a:pt x="936" y="17"/>
                </a:cubicBezTo>
                <a:cubicBezTo>
                  <a:pt x="1069" y="31"/>
                  <a:pt x="1158" y="53"/>
                  <a:pt x="1223" y="87"/>
                </a:cubicBezTo>
                <a:cubicBezTo>
                  <a:pt x="1288" y="121"/>
                  <a:pt x="1304" y="144"/>
                  <a:pt x="1326" y="221"/>
                </a:cubicBezTo>
                <a:cubicBezTo>
                  <a:pt x="1348" y="298"/>
                  <a:pt x="1358" y="446"/>
                  <a:pt x="1356" y="551"/>
                </a:cubicBezTo>
                <a:cubicBezTo>
                  <a:pt x="1354" y="656"/>
                  <a:pt x="1344" y="783"/>
                  <a:pt x="1314" y="851"/>
                </a:cubicBezTo>
                <a:cubicBezTo>
                  <a:pt x="1284" y="919"/>
                  <a:pt x="1253" y="936"/>
                  <a:pt x="1176" y="959"/>
                </a:cubicBezTo>
                <a:cubicBezTo>
                  <a:pt x="1099" y="982"/>
                  <a:pt x="964" y="984"/>
                  <a:pt x="852" y="989"/>
                </a:cubicBezTo>
                <a:cubicBezTo>
                  <a:pt x="740" y="994"/>
                  <a:pt x="606" y="992"/>
                  <a:pt x="504" y="989"/>
                </a:cubicBezTo>
                <a:cubicBezTo>
                  <a:pt x="402" y="986"/>
                  <a:pt x="295" y="975"/>
                  <a:pt x="240" y="971"/>
                </a:cubicBezTo>
                <a:close/>
              </a:path>
            </a:pathLst>
          </a:cu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78560" y="4421160"/>
            <a:ext cx="2519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 Narrow"/>
              </a:rPr>
              <a:t>Рациональный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50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86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860"/>
                            </p:stCondLst>
                            <p:childTnLst>
                              <p:par>
                                <p:cTn id="46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000"/>
                            </p:stCondLst>
                            <p:childTnLst>
                              <p:par>
                                <p:cTn id="6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7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7680" y="260280"/>
            <a:ext cx="8620200" cy="39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4360" y="1838160"/>
            <a:ext cx="7128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759960" y="1838160"/>
            <a:ext cx="32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965160" y="1595520"/>
            <a:ext cx="6480" cy="315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10280" y="2620800"/>
            <a:ext cx="12970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0</a:t>
            </a:r>
            <a:r>
              <a:rPr b="1" i="1" lang="en-US" sz="1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&lt; 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&lt;</a:t>
            </a:r>
            <a:r>
              <a:rPr b="1" lang="en-US" sz="1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440" y="633240"/>
            <a:ext cx="87138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 Narrow"/>
              </a:rPr>
              <a:t>– </a:t>
            </a:r>
            <a:r>
              <a:rPr b="1" lang="ru-RU" sz="2100" spc="-1" strike="noStrike">
                <a:solidFill>
                  <a:srgbClr val="333399"/>
                </a:solidFill>
                <a:latin typeface="Arial Narrow"/>
              </a:rPr>
              <a:t>уравнения, предназначенные для определения основных неизвестных </a:t>
            </a:r>
            <a:r>
              <a:rPr b="1" i="1" lang="ru-RU" sz="2100" spc="-1" strike="noStrike">
                <a:solidFill>
                  <a:srgbClr val="333399"/>
                </a:solidFill>
                <a:latin typeface="Times New Roman"/>
              </a:rPr>
              <a:t>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9720" y="5068800"/>
            <a:ext cx="837900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99"/>
                </a:solidFill>
                <a:latin typeface="Times New Roman"/>
              </a:rPr>
              <a:t>Условие эквивалентно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ОСМС и РСНС –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кинематическо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венство перемещений в ОСМС и РСНС по направлениям связ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и которых приняты за основные неизвест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аче – по направлениям основных неизвестных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71640" y="194940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92360" y="2139840"/>
            <a:ext cx="21600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92360" y="21398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98920" y="19684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64000" y="210168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95640" y="2190600"/>
            <a:ext cx="21564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95640" y="219060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01840" y="201600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63680" y="196200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19494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8960" y="2139840"/>
            <a:ext cx="21564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58960" y="21398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65160" y="19684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30240" y="210168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0080" y="191124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84240" y="19512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71640" y="17859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17892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09760" y="17859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38360" y="1792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68400" y="17859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84400" y="17892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300400" y="17859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22520" y="1792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44640" y="17859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67120" y="17892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82760" y="17859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98760" y="1792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597120" y="1792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62200" y="191448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28800" y="191448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1785960"/>
            <a:ext cx="26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90720" y="1946160"/>
            <a:ext cx="2577960" cy="171720"/>
          </a:xfrm>
          <a:custGeom>
            <a:avLst/>
            <a:gdLst/>
            <a:ahLst/>
            <a:rect l="l" t="t" r="r" b="b"/>
            <a:pathLst>
              <a:path w="1624" h="108">
                <a:moveTo>
                  <a:pt x="0" y="13"/>
                </a:moveTo>
                <a:cubicBezTo>
                  <a:pt x="19" y="22"/>
                  <a:pt x="77" y="51"/>
                  <a:pt x="116" y="65"/>
                </a:cubicBezTo>
                <a:cubicBezTo>
                  <a:pt x="155" y="79"/>
                  <a:pt x="193" y="90"/>
                  <a:pt x="236" y="97"/>
                </a:cubicBezTo>
                <a:cubicBezTo>
                  <a:pt x="279" y="104"/>
                  <a:pt x="331" y="106"/>
                  <a:pt x="376" y="105"/>
                </a:cubicBezTo>
                <a:cubicBezTo>
                  <a:pt x="421" y="104"/>
                  <a:pt x="465" y="98"/>
                  <a:pt x="508" y="89"/>
                </a:cubicBezTo>
                <a:cubicBezTo>
                  <a:pt x="551" y="80"/>
                  <a:pt x="599" y="61"/>
                  <a:pt x="636" y="49"/>
                </a:cubicBezTo>
                <a:cubicBezTo>
                  <a:pt x="673" y="37"/>
                  <a:pt x="701" y="25"/>
                  <a:pt x="732" y="17"/>
                </a:cubicBezTo>
                <a:cubicBezTo>
                  <a:pt x="763" y="9"/>
                  <a:pt x="794" y="2"/>
                  <a:pt x="824" y="1"/>
                </a:cubicBezTo>
                <a:cubicBezTo>
                  <a:pt x="854" y="0"/>
                  <a:pt x="878" y="6"/>
                  <a:pt x="912" y="13"/>
                </a:cubicBezTo>
                <a:cubicBezTo>
                  <a:pt x="946" y="20"/>
                  <a:pt x="990" y="33"/>
                  <a:pt x="1028" y="45"/>
                </a:cubicBezTo>
                <a:cubicBezTo>
                  <a:pt x="1066" y="57"/>
                  <a:pt x="1107" y="75"/>
                  <a:pt x="1144" y="85"/>
                </a:cubicBezTo>
                <a:cubicBezTo>
                  <a:pt x="1181" y="95"/>
                  <a:pt x="1211" y="102"/>
                  <a:pt x="1252" y="105"/>
                </a:cubicBezTo>
                <a:cubicBezTo>
                  <a:pt x="1293" y="108"/>
                  <a:pt x="1345" y="107"/>
                  <a:pt x="1388" y="101"/>
                </a:cubicBezTo>
                <a:cubicBezTo>
                  <a:pt x="1431" y="95"/>
                  <a:pt x="1469" y="83"/>
                  <a:pt x="1508" y="69"/>
                </a:cubicBezTo>
                <a:cubicBezTo>
                  <a:pt x="1547" y="55"/>
                  <a:pt x="1600" y="28"/>
                  <a:pt x="1624" y="1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601800" y="1592280"/>
            <a:ext cx="6120" cy="315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01840" y="1515960"/>
            <a:ext cx="0" cy="433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50960" y="981000"/>
            <a:ext cx="1297080" cy="2919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65160" y="218448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00400" y="218448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6920" y="2152800"/>
            <a:ext cx="730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97120" y="218448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65160" y="2346480"/>
            <a:ext cx="133200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03640" y="2346480"/>
            <a:ext cx="12952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1200" y="1366920"/>
            <a:ext cx="1295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3/8)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24200" y="1500120"/>
            <a:ext cx="36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6040" y="1698480"/>
            <a:ext cx="326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43160" y="1967040"/>
            <a:ext cx="326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14600" y="1366920"/>
            <a:ext cx="1295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3/8)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04920" y="1284120"/>
            <a:ext cx="1295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5/4)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21000" y="2114640"/>
            <a:ext cx="36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36800" y="2117880"/>
            <a:ext cx="36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52840" y="1731960"/>
            <a:ext cx="326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71640" y="2627280"/>
            <a:ext cx="2627280" cy="395280"/>
          </a:xfrm>
          <a:custGeom>
            <a:avLst/>
            <a:gdLst/>
            <a:ahLst/>
            <a:rect l="l" t="t" r="r" b="b"/>
            <a:pathLst>
              <a:path w="1655" h="209">
                <a:moveTo>
                  <a:pt x="0" y="115"/>
                </a:moveTo>
                <a:cubicBezTo>
                  <a:pt x="19" y="124"/>
                  <a:pt x="78" y="153"/>
                  <a:pt x="118" y="167"/>
                </a:cubicBezTo>
                <a:cubicBezTo>
                  <a:pt x="158" y="181"/>
                  <a:pt x="197" y="192"/>
                  <a:pt x="241" y="199"/>
                </a:cubicBezTo>
                <a:cubicBezTo>
                  <a:pt x="284" y="206"/>
                  <a:pt x="338" y="208"/>
                  <a:pt x="383" y="207"/>
                </a:cubicBezTo>
                <a:cubicBezTo>
                  <a:pt x="428" y="206"/>
                  <a:pt x="470" y="201"/>
                  <a:pt x="510" y="192"/>
                </a:cubicBezTo>
                <a:cubicBezTo>
                  <a:pt x="550" y="183"/>
                  <a:pt x="586" y="169"/>
                  <a:pt x="624" y="150"/>
                </a:cubicBezTo>
                <a:cubicBezTo>
                  <a:pt x="662" y="131"/>
                  <a:pt x="703" y="103"/>
                  <a:pt x="738" y="78"/>
                </a:cubicBezTo>
                <a:cubicBezTo>
                  <a:pt x="773" y="53"/>
                  <a:pt x="772" y="52"/>
                  <a:pt x="834" y="0"/>
                </a:cubicBezTo>
                <a:cubicBezTo>
                  <a:pt x="908" y="56"/>
                  <a:pt x="892" y="47"/>
                  <a:pt x="930" y="72"/>
                </a:cubicBezTo>
                <a:cubicBezTo>
                  <a:pt x="968" y="97"/>
                  <a:pt x="1022" y="130"/>
                  <a:pt x="1062" y="150"/>
                </a:cubicBezTo>
                <a:cubicBezTo>
                  <a:pt x="1102" y="170"/>
                  <a:pt x="1134" y="183"/>
                  <a:pt x="1170" y="192"/>
                </a:cubicBezTo>
                <a:cubicBezTo>
                  <a:pt x="1206" y="201"/>
                  <a:pt x="1235" y="205"/>
                  <a:pt x="1276" y="207"/>
                </a:cubicBezTo>
                <a:cubicBezTo>
                  <a:pt x="1317" y="209"/>
                  <a:pt x="1371" y="209"/>
                  <a:pt x="1414" y="203"/>
                </a:cubicBezTo>
                <a:cubicBezTo>
                  <a:pt x="1458" y="197"/>
                  <a:pt x="1497" y="185"/>
                  <a:pt x="1537" y="171"/>
                </a:cubicBezTo>
                <a:cubicBezTo>
                  <a:pt x="1577" y="157"/>
                  <a:pt x="1631" y="130"/>
                  <a:pt x="1655" y="119"/>
                </a:cubicBez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71640" y="2849400"/>
            <a:ext cx="262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93920" y="26319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78160" y="2409840"/>
            <a:ext cx="66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93920" y="2590560"/>
            <a:ext cx="142920" cy="36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010120" y="1838160"/>
            <a:ext cx="7164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086080" y="1838160"/>
            <a:ext cx="32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84800" y="195408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831080" y="2139840"/>
            <a:ext cx="216000" cy="716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831080" y="21398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37640" y="19684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902720" y="2101680"/>
            <a:ext cx="727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81760" y="194940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84720" y="2139840"/>
            <a:ext cx="216000" cy="7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21398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91280" y="19684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6360" y="2101680"/>
            <a:ext cx="727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56200" y="191124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07120" y="195120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297400" y="17845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13400" y="1787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35520" y="17845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964120" y="179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94520" y="17845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10160" y="1787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626160" y="17845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48640" y="179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70760" y="17845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92880" y="1787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508880" y="17845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24880" y="179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923240" y="179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900920" y="191448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54560" y="191448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97400" y="1784520"/>
            <a:ext cx="26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16480" y="1962000"/>
            <a:ext cx="2578320" cy="241560"/>
          </a:xfrm>
          <a:custGeom>
            <a:avLst/>
            <a:gdLst/>
            <a:ahLst/>
            <a:rect l="l" t="t" r="r" b="b"/>
            <a:pathLst>
              <a:path w="1624" h="152">
                <a:moveTo>
                  <a:pt x="0" y="0"/>
                </a:moveTo>
                <a:cubicBezTo>
                  <a:pt x="19" y="9"/>
                  <a:pt x="76" y="35"/>
                  <a:pt x="116" y="52"/>
                </a:cubicBezTo>
                <a:cubicBezTo>
                  <a:pt x="156" y="69"/>
                  <a:pt x="196" y="90"/>
                  <a:pt x="239" y="104"/>
                </a:cubicBezTo>
                <a:cubicBezTo>
                  <a:pt x="282" y="118"/>
                  <a:pt x="332" y="129"/>
                  <a:pt x="375" y="136"/>
                </a:cubicBezTo>
                <a:cubicBezTo>
                  <a:pt x="418" y="143"/>
                  <a:pt x="454" y="147"/>
                  <a:pt x="495" y="148"/>
                </a:cubicBezTo>
                <a:cubicBezTo>
                  <a:pt x="536" y="149"/>
                  <a:pt x="582" y="145"/>
                  <a:pt x="623" y="140"/>
                </a:cubicBezTo>
                <a:cubicBezTo>
                  <a:pt x="664" y="135"/>
                  <a:pt x="705" y="125"/>
                  <a:pt x="739" y="120"/>
                </a:cubicBezTo>
                <a:cubicBezTo>
                  <a:pt x="773" y="115"/>
                  <a:pt x="798" y="112"/>
                  <a:pt x="827" y="112"/>
                </a:cubicBezTo>
                <a:cubicBezTo>
                  <a:pt x="856" y="112"/>
                  <a:pt x="878" y="115"/>
                  <a:pt x="911" y="120"/>
                </a:cubicBezTo>
                <a:cubicBezTo>
                  <a:pt x="944" y="125"/>
                  <a:pt x="986" y="135"/>
                  <a:pt x="1023" y="140"/>
                </a:cubicBezTo>
                <a:cubicBezTo>
                  <a:pt x="1060" y="145"/>
                  <a:pt x="1093" y="152"/>
                  <a:pt x="1135" y="152"/>
                </a:cubicBezTo>
                <a:cubicBezTo>
                  <a:pt x="1177" y="152"/>
                  <a:pt x="1232" y="147"/>
                  <a:pt x="1275" y="140"/>
                </a:cubicBezTo>
                <a:cubicBezTo>
                  <a:pt x="1318" y="133"/>
                  <a:pt x="1354" y="125"/>
                  <a:pt x="1395" y="112"/>
                </a:cubicBezTo>
                <a:cubicBezTo>
                  <a:pt x="1436" y="99"/>
                  <a:pt x="1485" y="78"/>
                  <a:pt x="1523" y="60"/>
                </a:cubicBezTo>
                <a:cubicBezTo>
                  <a:pt x="1561" y="42"/>
                  <a:pt x="1603" y="16"/>
                  <a:pt x="1624" y="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77080" y="1252440"/>
            <a:ext cx="1296720" cy="307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Book Antiqua"/>
              </a:rPr>
              <a:t>О</a:t>
            </a:r>
            <a:r>
              <a:rPr b="1" lang="en-US" sz="1200" spc="-1" strike="noStrike">
                <a:solidFill>
                  <a:srgbClr val="a50021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Book Antiqua"/>
              </a:rPr>
              <a:t>С М</a:t>
            </a:r>
            <a:r>
              <a:rPr b="1" lang="en-US" sz="1200" spc="-1" strike="noStrike">
                <a:solidFill>
                  <a:srgbClr val="a50021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Book Antiqu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1040" y="1947960"/>
            <a:ext cx="0" cy="45396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42000" y="2401920"/>
            <a:ext cx="165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149960" y="1496880"/>
            <a:ext cx="360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41800" y="1698480"/>
            <a:ext cx="327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568920" y="2373480"/>
            <a:ext cx="327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178840" y="2048040"/>
            <a:ext cx="5778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878600" y="1719360"/>
            <a:ext cx="327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013520" y="3346200"/>
            <a:ext cx="142920" cy="36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18280" y="1976400"/>
            <a:ext cx="2577960" cy="414360"/>
          </a:xfrm>
          <a:custGeom>
            <a:avLst/>
            <a:gdLst/>
            <a:ahLst/>
            <a:rect l="l" t="t" r="r" b="b"/>
            <a:pathLst>
              <a:path w="1624" h="261">
                <a:moveTo>
                  <a:pt x="0" y="0"/>
                </a:moveTo>
                <a:cubicBezTo>
                  <a:pt x="30" y="15"/>
                  <a:pt x="122" y="67"/>
                  <a:pt x="178" y="93"/>
                </a:cubicBezTo>
                <a:cubicBezTo>
                  <a:pt x="234" y="119"/>
                  <a:pt x="282" y="138"/>
                  <a:pt x="338" y="159"/>
                </a:cubicBezTo>
                <a:cubicBezTo>
                  <a:pt x="394" y="180"/>
                  <a:pt x="457" y="204"/>
                  <a:pt x="514" y="219"/>
                </a:cubicBezTo>
                <a:cubicBezTo>
                  <a:pt x="571" y="234"/>
                  <a:pt x="624" y="244"/>
                  <a:pt x="678" y="251"/>
                </a:cubicBezTo>
                <a:cubicBezTo>
                  <a:pt x="732" y="258"/>
                  <a:pt x="782" y="261"/>
                  <a:pt x="838" y="261"/>
                </a:cubicBezTo>
                <a:cubicBezTo>
                  <a:pt x="894" y="261"/>
                  <a:pt x="959" y="258"/>
                  <a:pt x="1014" y="251"/>
                </a:cubicBezTo>
                <a:cubicBezTo>
                  <a:pt x="1069" y="244"/>
                  <a:pt x="1120" y="232"/>
                  <a:pt x="1166" y="219"/>
                </a:cubicBezTo>
                <a:cubicBezTo>
                  <a:pt x="1212" y="206"/>
                  <a:pt x="1243" y="194"/>
                  <a:pt x="1294" y="173"/>
                </a:cubicBezTo>
                <a:cubicBezTo>
                  <a:pt x="1345" y="152"/>
                  <a:pt x="1415" y="121"/>
                  <a:pt x="1470" y="93"/>
                </a:cubicBezTo>
                <a:cubicBezTo>
                  <a:pt x="1525" y="65"/>
                  <a:pt x="1592" y="23"/>
                  <a:pt x="1624" y="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6626160" y="1962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75440" y="1954080"/>
            <a:ext cx="319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575400" y="2152800"/>
            <a:ext cx="326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27960" y="2146320"/>
            <a:ext cx="0" cy="468360"/>
          </a:xfrm>
          <a:prstGeom prst="line">
            <a:avLst/>
          </a:prstGeom>
          <a:ln w="28440">
            <a:solidFill>
              <a:srgbClr val="a50021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523200" y="2166840"/>
            <a:ext cx="71280" cy="201600"/>
          </a:xfrm>
          <a:custGeom>
            <a:avLst/>
            <a:gdLst>
              <a:gd name="textAreaLeft" fmla="*/ 45720 w 71280"/>
              <a:gd name="textAreaRight" fmla="*/ 71640 w 71280"/>
              <a:gd name="textAreaTop" fmla="*/ 5040 h 201600"/>
              <a:gd name="textAreaBottom" fmla="*/ 196560 h 20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221520" y="2270160"/>
            <a:ext cx="28872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905440" y="2308320"/>
            <a:ext cx="5778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65160" y="241632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95680" y="242100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18280" y="1976400"/>
            <a:ext cx="2577960" cy="414360"/>
          </a:xfrm>
          <a:custGeom>
            <a:avLst/>
            <a:gdLst/>
            <a:ahLst/>
            <a:rect l="l" t="t" r="r" b="b"/>
            <a:pathLst>
              <a:path w="1624" h="261">
                <a:moveTo>
                  <a:pt x="0" y="0"/>
                </a:moveTo>
                <a:cubicBezTo>
                  <a:pt x="30" y="15"/>
                  <a:pt x="122" y="67"/>
                  <a:pt x="178" y="93"/>
                </a:cubicBezTo>
                <a:cubicBezTo>
                  <a:pt x="234" y="119"/>
                  <a:pt x="282" y="138"/>
                  <a:pt x="338" y="159"/>
                </a:cubicBezTo>
                <a:cubicBezTo>
                  <a:pt x="394" y="180"/>
                  <a:pt x="457" y="204"/>
                  <a:pt x="514" y="219"/>
                </a:cubicBezTo>
                <a:cubicBezTo>
                  <a:pt x="571" y="234"/>
                  <a:pt x="624" y="244"/>
                  <a:pt x="678" y="251"/>
                </a:cubicBezTo>
                <a:cubicBezTo>
                  <a:pt x="732" y="258"/>
                  <a:pt x="782" y="261"/>
                  <a:pt x="838" y="261"/>
                </a:cubicBezTo>
                <a:cubicBezTo>
                  <a:pt x="894" y="261"/>
                  <a:pt x="959" y="258"/>
                  <a:pt x="1014" y="251"/>
                </a:cubicBezTo>
                <a:cubicBezTo>
                  <a:pt x="1069" y="244"/>
                  <a:pt x="1120" y="232"/>
                  <a:pt x="1166" y="219"/>
                </a:cubicBezTo>
                <a:cubicBezTo>
                  <a:pt x="1212" y="206"/>
                  <a:pt x="1243" y="194"/>
                  <a:pt x="1294" y="173"/>
                </a:cubicBezTo>
                <a:cubicBezTo>
                  <a:pt x="1345" y="152"/>
                  <a:pt x="1415" y="121"/>
                  <a:pt x="1470" y="93"/>
                </a:cubicBezTo>
                <a:cubicBezTo>
                  <a:pt x="1525" y="65"/>
                  <a:pt x="1592" y="23"/>
                  <a:pt x="1624" y="4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78120" y="2558880"/>
            <a:ext cx="936720" cy="57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741840" y="2695680"/>
            <a:ext cx="93636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РС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291280" y="3787920"/>
            <a:ext cx="2655720" cy="307800"/>
          </a:xfrm>
          <a:custGeom>
            <a:avLst/>
            <a:gdLst/>
            <a:ahLst/>
            <a:rect l="l" t="t" r="r" b="b"/>
            <a:pathLst>
              <a:path w="1673" h="194">
                <a:moveTo>
                  <a:pt x="0" y="40"/>
                </a:moveTo>
                <a:cubicBezTo>
                  <a:pt x="22" y="53"/>
                  <a:pt x="90" y="95"/>
                  <a:pt x="131" y="116"/>
                </a:cubicBezTo>
                <a:cubicBezTo>
                  <a:pt x="172" y="137"/>
                  <a:pt x="204" y="151"/>
                  <a:pt x="247" y="164"/>
                </a:cubicBezTo>
                <a:cubicBezTo>
                  <a:pt x="290" y="177"/>
                  <a:pt x="344" y="190"/>
                  <a:pt x="391" y="192"/>
                </a:cubicBezTo>
                <a:cubicBezTo>
                  <a:pt x="438" y="194"/>
                  <a:pt x="484" y="187"/>
                  <a:pt x="527" y="176"/>
                </a:cubicBezTo>
                <a:cubicBezTo>
                  <a:pt x="570" y="165"/>
                  <a:pt x="610" y="147"/>
                  <a:pt x="647" y="128"/>
                </a:cubicBezTo>
                <a:cubicBezTo>
                  <a:pt x="684" y="109"/>
                  <a:pt x="715" y="85"/>
                  <a:pt x="747" y="64"/>
                </a:cubicBezTo>
                <a:cubicBezTo>
                  <a:pt x="779" y="43"/>
                  <a:pt x="763" y="52"/>
                  <a:pt x="839" y="0"/>
                </a:cubicBezTo>
                <a:cubicBezTo>
                  <a:pt x="919" y="52"/>
                  <a:pt x="902" y="45"/>
                  <a:pt x="939" y="64"/>
                </a:cubicBezTo>
                <a:cubicBezTo>
                  <a:pt x="975" y="85"/>
                  <a:pt x="1017" y="110"/>
                  <a:pt x="1055" y="128"/>
                </a:cubicBezTo>
                <a:cubicBezTo>
                  <a:pt x="1093" y="146"/>
                  <a:pt x="1130" y="161"/>
                  <a:pt x="1171" y="172"/>
                </a:cubicBezTo>
                <a:cubicBezTo>
                  <a:pt x="1212" y="183"/>
                  <a:pt x="1260" y="191"/>
                  <a:pt x="1303" y="192"/>
                </a:cubicBezTo>
                <a:cubicBezTo>
                  <a:pt x="1346" y="193"/>
                  <a:pt x="1390" y="187"/>
                  <a:pt x="1431" y="176"/>
                </a:cubicBezTo>
                <a:cubicBezTo>
                  <a:pt x="1472" y="165"/>
                  <a:pt x="1511" y="150"/>
                  <a:pt x="1551" y="128"/>
                </a:cubicBezTo>
                <a:cubicBezTo>
                  <a:pt x="1591" y="106"/>
                  <a:pt x="1648" y="62"/>
                  <a:pt x="1673" y="45"/>
                </a:cubicBez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26160" y="3778200"/>
            <a:ext cx="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91280" y="2225520"/>
            <a:ext cx="0" cy="16192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940520" y="2230560"/>
            <a:ext cx="0" cy="16192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626160" y="292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627960" y="377676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92720" y="3854520"/>
            <a:ext cx="2649600" cy="942840"/>
          </a:xfrm>
          <a:custGeom>
            <a:avLst/>
            <a:gdLst/>
            <a:ahLst/>
            <a:rect l="l" t="t" r="r" b="b"/>
            <a:pathLst>
              <a:path w="1669" h="594">
                <a:moveTo>
                  <a:pt x="0" y="0"/>
                </a:moveTo>
                <a:cubicBezTo>
                  <a:pt x="31" y="34"/>
                  <a:pt x="123" y="149"/>
                  <a:pt x="183" y="212"/>
                </a:cubicBezTo>
                <a:cubicBezTo>
                  <a:pt x="243" y="275"/>
                  <a:pt x="304" y="332"/>
                  <a:pt x="362" y="380"/>
                </a:cubicBezTo>
                <a:cubicBezTo>
                  <a:pt x="420" y="428"/>
                  <a:pt x="472" y="466"/>
                  <a:pt x="528" y="498"/>
                </a:cubicBezTo>
                <a:cubicBezTo>
                  <a:pt x="584" y="530"/>
                  <a:pt x="641" y="555"/>
                  <a:pt x="697" y="571"/>
                </a:cubicBezTo>
                <a:cubicBezTo>
                  <a:pt x="752" y="587"/>
                  <a:pt x="804" y="594"/>
                  <a:pt x="861" y="594"/>
                </a:cubicBezTo>
                <a:cubicBezTo>
                  <a:pt x="919" y="594"/>
                  <a:pt x="986" y="587"/>
                  <a:pt x="1042" y="571"/>
                </a:cubicBezTo>
                <a:cubicBezTo>
                  <a:pt x="1099" y="555"/>
                  <a:pt x="1146" y="530"/>
                  <a:pt x="1198" y="498"/>
                </a:cubicBezTo>
                <a:cubicBezTo>
                  <a:pt x="1250" y="466"/>
                  <a:pt x="1302" y="428"/>
                  <a:pt x="1354" y="380"/>
                </a:cubicBezTo>
                <a:cubicBezTo>
                  <a:pt x="1406" y="332"/>
                  <a:pt x="1459" y="274"/>
                  <a:pt x="1511" y="212"/>
                </a:cubicBezTo>
                <a:cubicBezTo>
                  <a:pt x="1563" y="150"/>
                  <a:pt x="1636" y="52"/>
                  <a:pt x="1669" y="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92720" y="2914560"/>
            <a:ext cx="2651040" cy="943200"/>
          </a:xfrm>
          <a:custGeom>
            <a:avLst/>
            <a:gdLst/>
            <a:ahLst/>
            <a:rect l="l" t="t" r="r" b="b"/>
            <a:pathLst>
              <a:path w="1670" h="594">
                <a:moveTo>
                  <a:pt x="0" y="585"/>
                </a:moveTo>
                <a:cubicBezTo>
                  <a:pt x="18" y="584"/>
                  <a:pt x="59" y="586"/>
                  <a:pt x="106" y="576"/>
                </a:cubicBezTo>
                <a:cubicBezTo>
                  <a:pt x="153" y="566"/>
                  <a:pt x="231" y="549"/>
                  <a:pt x="282" y="528"/>
                </a:cubicBezTo>
                <a:cubicBezTo>
                  <a:pt x="333" y="507"/>
                  <a:pt x="369" y="483"/>
                  <a:pt x="414" y="452"/>
                </a:cubicBezTo>
                <a:cubicBezTo>
                  <a:pt x="459" y="421"/>
                  <a:pt x="507" y="384"/>
                  <a:pt x="554" y="340"/>
                </a:cubicBezTo>
                <a:cubicBezTo>
                  <a:pt x="601" y="296"/>
                  <a:pt x="646" y="248"/>
                  <a:pt x="694" y="191"/>
                </a:cubicBezTo>
                <a:cubicBezTo>
                  <a:pt x="742" y="134"/>
                  <a:pt x="758" y="112"/>
                  <a:pt x="842" y="0"/>
                </a:cubicBezTo>
                <a:cubicBezTo>
                  <a:pt x="930" y="113"/>
                  <a:pt x="974" y="172"/>
                  <a:pt x="1026" y="232"/>
                </a:cubicBezTo>
                <a:cubicBezTo>
                  <a:pt x="1078" y="292"/>
                  <a:pt x="1114" y="323"/>
                  <a:pt x="1154" y="360"/>
                </a:cubicBezTo>
                <a:cubicBezTo>
                  <a:pt x="1194" y="397"/>
                  <a:pt x="1225" y="424"/>
                  <a:pt x="1266" y="452"/>
                </a:cubicBezTo>
                <a:cubicBezTo>
                  <a:pt x="1307" y="480"/>
                  <a:pt x="1344" y="506"/>
                  <a:pt x="1398" y="528"/>
                </a:cubicBezTo>
                <a:cubicBezTo>
                  <a:pt x="1452" y="550"/>
                  <a:pt x="1545" y="574"/>
                  <a:pt x="1590" y="584"/>
                </a:cubicBezTo>
                <a:cubicBezTo>
                  <a:pt x="1635" y="594"/>
                  <a:pt x="1653" y="588"/>
                  <a:pt x="1670" y="58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894800" y="3860640"/>
            <a:ext cx="936360" cy="57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8160" y="3997440"/>
            <a:ext cx="9367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ОС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093080" y="3203640"/>
            <a:ext cx="9093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407360" y="4483080"/>
            <a:ext cx="765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21680" y="4549680"/>
            <a:ext cx="150840" cy="46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291280" y="3855960"/>
            <a:ext cx="2655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" y="3209760"/>
            <a:ext cx="4392360" cy="17640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25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ДС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ОСМ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= НДС РСН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 истинном знач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сновного неизвес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основная система эквивалент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 Narrow"/>
              </a:rPr>
              <a:t>рассчитываемой СН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при одинак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данных воздействиях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2543040" y="6008760"/>
                <a:ext cx="39452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ОСМС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РСНС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,  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7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000"/>
                            </p:stCondLst>
                            <p:childTnLst>
                              <p:par>
                                <p:cTn id="9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500"/>
                            </p:stCondLst>
                            <p:childTnLst>
                              <p:par>
                                <p:cTn id="9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000"/>
                            </p:stCondLst>
                            <p:childTnLst>
                              <p:par>
                                <p:cTn id="9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3500"/>
                            </p:stCondLst>
                            <p:childTnLst>
                              <p:par>
                                <p:cTn id="9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6500"/>
                            </p:stCondLst>
                            <p:childTnLst>
                              <p:par>
                                <p:cTn id="10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9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9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7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6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0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4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5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6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7920"/>
                            </p:stCondLst>
                            <p:childTnLst>
                              <p:par>
                                <p:cTn id="14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7680" y="260280"/>
            <a:ext cx="8620200" cy="39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9720" y="692280"/>
            <a:ext cx="8379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Кинематическое условие эквивалент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ОСМС и РСНС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036880" y="981000"/>
                <a:ext cx="4006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ОСМС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РСНС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,  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708120" y="1625760"/>
            <a:ext cx="216036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ереме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 основной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41560" y="1623960"/>
            <a:ext cx="244800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ереме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 рассчитываемой С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1835280" y="1471680"/>
            <a:ext cx="288720" cy="17928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3708000" y="1438200"/>
            <a:ext cx="3128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2968200" y="-203040"/>
            <a:ext cx="182520" cy="4608360"/>
          </a:xfrm>
          <a:custGeom>
            <a:avLst/>
            <a:gdLst>
              <a:gd name="textAreaLeft" fmla="*/ 0 w 182520"/>
              <a:gd name="textAreaRight" fmla="*/ 65880 w 18252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9280" y="2158920"/>
            <a:ext cx="5688000" cy="8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 нап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го основного неизвестного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заданных воздействий и одновременно (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 ОСМС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реакций всех удалённых лишних свя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653080" y="1757520"/>
            <a:ext cx="324000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удалённая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я связь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деформируемая (жёсткая),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7440" y="4319640"/>
            <a:ext cx="49690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лное перемещение в основной сис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 направлению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го основного неизвестного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заданных воздействий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еакций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…, 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сех удалённых лишних свя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384960" y="2217600"/>
                <a:ext cx="1720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то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Δ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РСНС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6791400" y="2637000"/>
            <a:ext cx="1224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1397160"/>
            <a:ext cx="1338120" cy="1777680"/>
          </a:xfrm>
          <a:custGeom>
            <a:avLst/>
            <a:gdLst/>
            <a:ahLst/>
            <a:rect l="l" t="t" r="r" b="b"/>
            <a:pathLst>
              <a:path w="843" h="1120">
                <a:moveTo>
                  <a:pt x="0" y="0"/>
                </a:moveTo>
                <a:cubicBezTo>
                  <a:pt x="32" y="15"/>
                  <a:pt x="92" y="68"/>
                  <a:pt x="192" y="88"/>
                </a:cubicBezTo>
                <a:cubicBezTo>
                  <a:pt x="292" y="108"/>
                  <a:pt x="502" y="95"/>
                  <a:pt x="600" y="120"/>
                </a:cubicBezTo>
                <a:cubicBezTo>
                  <a:pt x="698" y="145"/>
                  <a:pt x="740" y="168"/>
                  <a:pt x="779" y="237"/>
                </a:cubicBezTo>
                <a:cubicBezTo>
                  <a:pt x="818" y="306"/>
                  <a:pt x="827" y="429"/>
                  <a:pt x="832" y="536"/>
                </a:cubicBezTo>
                <a:cubicBezTo>
                  <a:pt x="837" y="643"/>
                  <a:pt x="843" y="796"/>
                  <a:pt x="808" y="880"/>
                </a:cubicBezTo>
                <a:cubicBezTo>
                  <a:pt x="773" y="964"/>
                  <a:pt x="707" y="1000"/>
                  <a:pt x="624" y="1040"/>
                </a:cubicBezTo>
                <a:cubicBezTo>
                  <a:pt x="541" y="1080"/>
                  <a:pt x="377" y="1103"/>
                  <a:pt x="312" y="112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38760" y="2637000"/>
            <a:ext cx="2254320" cy="690480"/>
          </a:xfrm>
          <a:custGeom>
            <a:avLst/>
            <a:gdLst/>
            <a:ahLst/>
            <a:rect l="l" t="t" r="r" b="b"/>
            <a:pathLst>
              <a:path w="1601" h="435">
                <a:moveTo>
                  <a:pt x="1601" y="0"/>
                </a:moveTo>
                <a:cubicBezTo>
                  <a:pt x="1586" y="15"/>
                  <a:pt x="1562" y="61"/>
                  <a:pt x="1514" y="91"/>
                </a:cubicBezTo>
                <a:cubicBezTo>
                  <a:pt x="1466" y="121"/>
                  <a:pt x="1414" y="154"/>
                  <a:pt x="1312" y="179"/>
                </a:cubicBezTo>
                <a:cubicBezTo>
                  <a:pt x="1210" y="204"/>
                  <a:pt x="1023" y="224"/>
                  <a:pt x="904" y="243"/>
                </a:cubicBezTo>
                <a:cubicBezTo>
                  <a:pt x="785" y="262"/>
                  <a:pt x="714" y="270"/>
                  <a:pt x="595" y="295"/>
                </a:cubicBezTo>
                <a:cubicBezTo>
                  <a:pt x="476" y="320"/>
                  <a:pt x="291" y="372"/>
                  <a:pt x="192" y="395"/>
                </a:cubicBezTo>
                <a:cubicBezTo>
                  <a:pt x="93" y="418"/>
                  <a:pt x="40" y="427"/>
                  <a:pt x="0" y="435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1403280" y="3048120"/>
                <a:ext cx="33926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ОСМС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  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>
            <a:off x="1738440" y="3132000"/>
            <a:ext cx="503280" cy="179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1730520" y="3129120"/>
            <a:ext cx="502920" cy="179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585800" y="3784680"/>
                <a:ext cx="28368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  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1182600" y="3963960"/>
            <a:ext cx="358920" cy="395280"/>
          </a:xfrm>
          <a:custGeom>
            <a:avLst/>
            <a:gdLst>
              <a:gd name="textAreaLeft" fmla="*/ 0 w 358920"/>
              <a:gd name="textAreaRight" fmla="*/ 359280 w 358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659640" y="3068640"/>
            <a:ext cx="1440" cy="3510000"/>
          </a:xfrm>
          <a:custGeom>
            <a:avLst/>
            <a:gdLst/>
            <a:ahLst/>
            <a:rect l="l" t="t" r="r" b="b"/>
            <a:pathLst>
              <a:path w="5" h="2211">
                <a:moveTo>
                  <a:pt x="0" y="0"/>
                </a:moveTo>
                <a:lnTo>
                  <a:pt x="5" y="221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661080" y="2852640"/>
            <a:ext cx="2232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Примечание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 налич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пругих свя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н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не удаляютс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 сохраняются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упругие эле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М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50240" y="44038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69160" y="44038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880400" y="44038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10600" y="4500720"/>
            <a:ext cx="54000" cy="215640"/>
          </a:xfrm>
          <a:custGeom>
            <a:avLst/>
            <a:gdLst/>
            <a:ahLst/>
            <a:rect l="l" t="t" r="r" b="b"/>
            <a:pathLst>
              <a:path w="90" h="408">
                <a:moveTo>
                  <a:pt x="45" y="0"/>
                </a:moveTo>
                <a:lnTo>
                  <a:pt x="90" y="45"/>
                </a:lnTo>
                <a:lnTo>
                  <a:pt x="0" y="90"/>
                </a:lnTo>
                <a:lnTo>
                  <a:pt x="90" y="181"/>
                </a:lnTo>
                <a:lnTo>
                  <a:pt x="0" y="226"/>
                </a:lnTo>
                <a:lnTo>
                  <a:pt x="90" y="317"/>
                </a:lnTo>
                <a:lnTo>
                  <a:pt x="0" y="362"/>
                </a:lnTo>
                <a:lnTo>
                  <a:pt x="45" y="4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338960" y="4764240"/>
            <a:ext cx="216000" cy="7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38960" y="47642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10600" y="4726080"/>
            <a:ext cx="727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391520" y="442260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6600" y="4410000"/>
            <a:ext cx="433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50920" y="5208480"/>
            <a:ext cx="53276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принципу суперпозиции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314880" y="571176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т всех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86320" y="5529240"/>
            <a:ext cx="1431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т за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оз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76840" y="5541840"/>
            <a:ext cx="11880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971640" y="6060960"/>
                <a:ext cx="43545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  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1474920" y="3560760"/>
            <a:ext cx="576000" cy="216000"/>
          </a:xfrm>
          <a:prstGeom prst="downArrow">
            <a:avLst>
              <a:gd name="adj1" fmla="val 49861"/>
              <a:gd name="adj2" fmla="val 53676"/>
            </a:avLst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48160" y="4057560"/>
            <a:ext cx="1841400" cy="2327400"/>
          </a:xfrm>
          <a:custGeom>
            <a:avLst/>
            <a:gdLst/>
            <a:ahLst/>
            <a:rect l="l" t="t" r="r" b="b"/>
            <a:pathLst>
              <a:path w="1160" h="1466">
                <a:moveTo>
                  <a:pt x="0" y="0"/>
                </a:moveTo>
                <a:cubicBezTo>
                  <a:pt x="94" y="4"/>
                  <a:pt x="427" y="6"/>
                  <a:pt x="564" y="24"/>
                </a:cubicBezTo>
                <a:cubicBezTo>
                  <a:pt x="701" y="42"/>
                  <a:pt x="746" y="67"/>
                  <a:pt x="822" y="108"/>
                </a:cubicBezTo>
                <a:cubicBezTo>
                  <a:pt x="898" y="149"/>
                  <a:pt x="969" y="204"/>
                  <a:pt x="1020" y="270"/>
                </a:cubicBezTo>
                <a:cubicBezTo>
                  <a:pt x="1071" y="336"/>
                  <a:pt x="1105" y="395"/>
                  <a:pt x="1128" y="504"/>
                </a:cubicBezTo>
                <a:cubicBezTo>
                  <a:pt x="1151" y="613"/>
                  <a:pt x="1158" y="802"/>
                  <a:pt x="1158" y="924"/>
                </a:cubicBezTo>
                <a:cubicBezTo>
                  <a:pt x="1158" y="1046"/>
                  <a:pt x="1160" y="1152"/>
                  <a:pt x="1128" y="1236"/>
                </a:cubicBezTo>
                <a:cubicBezTo>
                  <a:pt x="1096" y="1320"/>
                  <a:pt x="1058" y="1390"/>
                  <a:pt x="966" y="1428"/>
                </a:cubicBezTo>
                <a:cubicBezTo>
                  <a:pt x="874" y="1466"/>
                  <a:pt x="657" y="1456"/>
                  <a:pt x="576" y="146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95800" y="5391000"/>
            <a:ext cx="1008000" cy="858960"/>
          </a:xfrm>
          <a:custGeom>
            <a:avLst/>
            <a:gdLst/>
            <a:ahLst/>
            <a:rect l="l" t="t" r="r" b="b"/>
            <a:pathLst>
              <a:path w="635" h="541">
                <a:moveTo>
                  <a:pt x="0" y="0"/>
                </a:moveTo>
                <a:cubicBezTo>
                  <a:pt x="62" y="1"/>
                  <a:pt x="282" y="1"/>
                  <a:pt x="372" y="12"/>
                </a:cubicBezTo>
                <a:cubicBezTo>
                  <a:pt x="462" y="23"/>
                  <a:pt x="498" y="34"/>
                  <a:pt x="540" y="66"/>
                </a:cubicBezTo>
                <a:cubicBezTo>
                  <a:pt x="582" y="98"/>
                  <a:pt x="613" y="145"/>
                  <a:pt x="624" y="204"/>
                </a:cubicBezTo>
                <a:cubicBezTo>
                  <a:pt x="635" y="263"/>
                  <a:pt x="634" y="367"/>
                  <a:pt x="606" y="420"/>
                </a:cubicBezTo>
                <a:cubicBezTo>
                  <a:pt x="578" y="473"/>
                  <a:pt x="531" y="503"/>
                  <a:pt x="456" y="522"/>
                </a:cubicBezTo>
                <a:cubicBezTo>
                  <a:pt x="381" y="541"/>
                  <a:pt x="219" y="534"/>
                  <a:pt x="157" y="53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42240" y="486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661160" y="486900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672400" y="486900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02600" y="4965840"/>
            <a:ext cx="54000" cy="215640"/>
          </a:xfrm>
          <a:custGeom>
            <a:avLst/>
            <a:gdLst/>
            <a:ahLst/>
            <a:rect l="l" t="t" r="r" b="b"/>
            <a:pathLst>
              <a:path w="90" h="408">
                <a:moveTo>
                  <a:pt x="45" y="0"/>
                </a:moveTo>
                <a:lnTo>
                  <a:pt x="90" y="45"/>
                </a:lnTo>
                <a:lnTo>
                  <a:pt x="0" y="90"/>
                </a:lnTo>
                <a:lnTo>
                  <a:pt x="90" y="181"/>
                </a:lnTo>
                <a:lnTo>
                  <a:pt x="0" y="226"/>
                </a:lnTo>
                <a:lnTo>
                  <a:pt x="90" y="317"/>
                </a:lnTo>
                <a:lnTo>
                  <a:pt x="0" y="362"/>
                </a:lnTo>
                <a:lnTo>
                  <a:pt x="45" y="4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124840" y="5386320"/>
            <a:ext cx="21600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124840" y="53863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196120" y="534816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183520" y="4888080"/>
            <a:ext cx="730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234280" y="5235480"/>
            <a:ext cx="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10680" y="5103720"/>
            <a:ext cx="71280" cy="2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8416800" y="51037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253360" y="52149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194680" y="518328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79000" y="5176800"/>
            <a:ext cx="727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845480" y="58104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64400" y="58104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675640" y="58104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205840" y="5907240"/>
            <a:ext cx="54000" cy="215640"/>
          </a:xfrm>
          <a:custGeom>
            <a:avLst/>
            <a:gdLst/>
            <a:ahLst/>
            <a:rect l="l" t="t" r="r" b="b"/>
            <a:pathLst>
              <a:path w="90" h="408">
                <a:moveTo>
                  <a:pt x="45" y="0"/>
                </a:moveTo>
                <a:lnTo>
                  <a:pt x="90" y="45"/>
                </a:lnTo>
                <a:lnTo>
                  <a:pt x="0" y="90"/>
                </a:lnTo>
                <a:lnTo>
                  <a:pt x="90" y="181"/>
                </a:lnTo>
                <a:lnTo>
                  <a:pt x="0" y="226"/>
                </a:lnTo>
                <a:lnTo>
                  <a:pt x="90" y="317"/>
                </a:lnTo>
                <a:lnTo>
                  <a:pt x="0" y="362"/>
                </a:lnTo>
                <a:lnTo>
                  <a:pt x="45" y="4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186760" y="5829480"/>
            <a:ext cx="730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413920" y="6045120"/>
            <a:ext cx="71280" cy="216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8420040" y="60451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256600" y="61563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97920" y="612468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381880" y="611820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8234280" y="6189840"/>
            <a:ext cx="0" cy="39528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2434200">
            <a:off x="7581600" y="4600440"/>
            <a:ext cx="360360" cy="144720"/>
          </a:xfrm>
          <a:prstGeom prst="rightArrow">
            <a:avLst>
              <a:gd name="adj1" fmla="val 49454"/>
              <a:gd name="adj2" fmla="val 83924"/>
            </a:avLst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5400000">
            <a:off x="8130600" y="5518080"/>
            <a:ext cx="216000" cy="215640"/>
          </a:xfrm>
          <a:prstGeom prst="rightArrow">
            <a:avLst>
              <a:gd name="adj1" fmla="val 50556"/>
              <a:gd name="adj2" fmla="val 51739"/>
            </a:avLst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78600" y="4869000"/>
            <a:ext cx="433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893000" y="5813280"/>
            <a:ext cx="433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873920" y="629280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0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5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6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7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6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7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8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9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0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1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7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1920"/>
                            </p:stCondLst>
                            <p:childTnLst>
                              <p:par>
                                <p:cTn id="15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0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1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2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8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9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3400"/>
                            </p:stCondLst>
                            <p:childTnLst>
                              <p:par>
                                <p:cTn id="15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73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7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7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9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94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9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1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4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8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4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9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0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1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1820"/>
                            </p:stCondLst>
                            <p:childTnLst>
                              <p:par>
                                <p:cTn id="17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5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6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7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3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3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7680" y="260280"/>
            <a:ext cx="8620200" cy="39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9720" y="692280"/>
            <a:ext cx="83790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Times New Roman"/>
              </a:rPr>
              <a:t>Кинематическое условие эквивалентност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ОСМС и РСНС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4424400" y="1527120"/>
                <a:ext cx="1930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</m:e>
                    </m:nary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250920" y="1812960"/>
            <a:ext cx="42498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о принципу независимости воздейств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667640" y="3386160"/>
            <a:ext cx="5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303800" y="2104920"/>
            <a:ext cx="190440" cy="1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78240" y="1038240"/>
                <a:ext cx="42177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  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6384960" y="1785960"/>
            <a:ext cx="25797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t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834160" y="2230560"/>
            <a:ext cx="1906560" cy="1258920"/>
          </a:xfrm>
          <a:custGeom>
            <a:avLst/>
            <a:gdLst/>
            <a:ahLst/>
            <a:rect l="l" t="t" r="r" b="b"/>
            <a:pathLst>
              <a:path w="1043" h="635">
                <a:moveTo>
                  <a:pt x="0" y="0"/>
                </a:moveTo>
                <a:lnTo>
                  <a:pt x="0" y="635"/>
                </a:lnTo>
                <a:lnTo>
                  <a:pt x="1043" y="6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834160" y="2624040"/>
            <a:ext cx="1439640" cy="86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829480" y="2624040"/>
            <a:ext cx="1441440" cy="846360"/>
          </a:xfrm>
          <a:custGeom>
            <a:avLst/>
            <a:gdLst/>
            <a:ahLst/>
            <a:rect l="l" t="t" r="r" b="b"/>
            <a:pathLst>
              <a:path w="908" h="499">
                <a:moveTo>
                  <a:pt x="0" y="0"/>
                </a:moveTo>
                <a:lnTo>
                  <a:pt x="908" y="0"/>
                </a:lnTo>
                <a:lnTo>
                  <a:pt x="908" y="499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80400" y="3497400"/>
            <a:ext cx="79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5006880" y="2344680"/>
                <a:ext cx="6238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5842080" y="3051000"/>
            <a:ext cx="718920" cy="432000"/>
          </a:xfrm>
          <a:custGeom>
            <a:avLst/>
            <a:gdLst/>
            <a:ahLst/>
            <a:rect l="l" t="t" r="r" b="b"/>
            <a:pathLst>
              <a:path w="908" h="499">
                <a:moveTo>
                  <a:pt x="0" y="0"/>
                </a:moveTo>
                <a:lnTo>
                  <a:pt x="908" y="0"/>
                </a:lnTo>
                <a:lnTo>
                  <a:pt x="908" y="499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68960" y="3497400"/>
            <a:ext cx="876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64000" y="2817720"/>
            <a:ext cx="5637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3640" y="4805280"/>
            <a:ext cx="1440000" cy="863640"/>
          </a:xfrm>
          <a:custGeom>
            <a:avLst/>
            <a:gdLst/>
            <a:ahLst/>
            <a:rect l="l" t="t" r="r" b="b"/>
            <a:pathLst>
              <a:path w="1089" h="544">
                <a:moveTo>
                  <a:pt x="0" y="0"/>
                </a:moveTo>
                <a:lnTo>
                  <a:pt x="1089" y="0"/>
                </a:lnTo>
                <a:lnTo>
                  <a:pt x="1089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6948360" y="4799160"/>
            <a:ext cx="0" cy="39528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69080" y="518148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a50021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7881840" y="5288040"/>
            <a:ext cx="43344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244000" y="515304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a50021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64000" y="3879720"/>
            <a:ext cx="34560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мещение в ОС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 направлению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259680" y="4805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7885080" y="57085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65800" y="4803840"/>
            <a:ext cx="1619280" cy="1042920"/>
          </a:xfrm>
          <a:custGeom>
            <a:avLst/>
            <a:gdLst/>
            <a:ahLst/>
            <a:rect l="l" t="t" r="r" b="b"/>
            <a:pathLst>
              <a:path w="1089" h="544">
                <a:moveTo>
                  <a:pt x="0" y="0"/>
                </a:moveTo>
                <a:lnTo>
                  <a:pt x="1089" y="0"/>
                </a:lnTo>
                <a:lnTo>
                  <a:pt x="1089" y="544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413400" y="4533840"/>
            <a:ext cx="1471680" cy="1138320"/>
          </a:xfrm>
          <a:custGeom>
            <a:avLst/>
            <a:gdLst/>
            <a:ahLst/>
            <a:rect l="l" t="t" r="r" b="b"/>
            <a:pathLst>
              <a:path w="927" h="717">
                <a:moveTo>
                  <a:pt x="0" y="69"/>
                </a:moveTo>
                <a:cubicBezTo>
                  <a:pt x="47" y="59"/>
                  <a:pt x="187" y="18"/>
                  <a:pt x="280" y="9"/>
                </a:cubicBezTo>
                <a:cubicBezTo>
                  <a:pt x="373" y="0"/>
                  <a:pt x="477" y="5"/>
                  <a:pt x="560" y="17"/>
                </a:cubicBezTo>
                <a:cubicBezTo>
                  <a:pt x="643" y="29"/>
                  <a:pt x="719" y="56"/>
                  <a:pt x="780" y="81"/>
                </a:cubicBezTo>
                <a:cubicBezTo>
                  <a:pt x="841" y="106"/>
                  <a:pt x="848" y="121"/>
                  <a:pt x="927" y="167"/>
                </a:cubicBezTo>
                <a:cubicBezTo>
                  <a:pt x="884" y="233"/>
                  <a:pt x="879" y="241"/>
                  <a:pt x="860" y="285"/>
                </a:cubicBezTo>
                <a:cubicBezTo>
                  <a:pt x="841" y="329"/>
                  <a:pt x="824" y="376"/>
                  <a:pt x="812" y="429"/>
                </a:cubicBezTo>
                <a:cubicBezTo>
                  <a:pt x="800" y="482"/>
                  <a:pt x="791" y="553"/>
                  <a:pt x="788" y="601"/>
                </a:cubicBezTo>
                <a:cubicBezTo>
                  <a:pt x="785" y="649"/>
                  <a:pt x="794" y="693"/>
                  <a:pt x="796" y="71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7686720" y="5707800"/>
            <a:ext cx="25200" cy="142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6249600" y="4653720"/>
            <a:ext cx="138960" cy="39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948360" y="445608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67360" y="4567320"/>
            <a:ext cx="71640" cy="215640"/>
          </a:xfrm>
          <a:custGeom>
            <a:avLst/>
            <a:gdLst>
              <a:gd name="textAreaLeft" fmla="*/ 45720 w 71640"/>
              <a:gd name="textAreaRight" fmla="*/ 72000 w 71640"/>
              <a:gd name="textAreaTop" fmla="*/ 5400 h 215640"/>
              <a:gd name="textAreaBottom" fmla="*/ 210240 h 21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584680" y="4245120"/>
            <a:ext cx="1263960" cy="426960"/>
          </a:xfrm>
          <a:custGeom>
            <a:avLst/>
            <a:gdLst/>
            <a:ahLst/>
            <a:rect l="l" t="t" r="r" b="b"/>
            <a:pathLst>
              <a:path w="819" h="269">
                <a:moveTo>
                  <a:pt x="0" y="0"/>
                </a:moveTo>
                <a:cubicBezTo>
                  <a:pt x="8" y="10"/>
                  <a:pt x="22" y="42"/>
                  <a:pt x="45" y="63"/>
                </a:cubicBezTo>
                <a:cubicBezTo>
                  <a:pt x="68" y="84"/>
                  <a:pt x="98" y="110"/>
                  <a:pt x="141" y="129"/>
                </a:cubicBezTo>
                <a:cubicBezTo>
                  <a:pt x="184" y="148"/>
                  <a:pt x="238" y="163"/>
                  <a:pt x="303" y="177"/>
                </a:cubicBezTo>
                <a:cubicBezTo>
                  <a:pt x="368" y="191"/>
                  <a:pt x="462" y="205"/>
                  <a:pt x="531" y="216"/>
                </a:cubicBezTo>
                <a:cubicBezTo>
                  <a:pt x="600" y="227"/>
                  <a:pt x="672" y="237"/>
                  <a:pt x="720" y="246"/>
                </a:cubicBezTo>
                <a:cubicBezTo>
                  <a:pt x="768" y="255"/>
                  <a:pt x="799" y="264"/>
                  <a:pt x="819" y="269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061480" y="5148360"/>
            <a:ext cx="7207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a50021"/>
                </a:solidFill>
                <a:latin typeface="Times New Roman"/>
              </a:rPr>
              <a:t>k</a:t>
            </a:r>
            <a:r>
              <a:rPr b="1" i="1" lang="en-US" sz="1200" spc="-1" strike="noStrike" baseline="-25000">
                <a:solidFill>
                  <a:srgbClr val="a50021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7702560" y="5286240"/>
            <a:ext cx="43344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7080120" y="2209680"/>
                <a:ext cx="17877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  <m:r>
                          <m:t xml:space="preserve"> 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2268360" y="2205000"/>
            <a:ext cx="2160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05560" y="3400560"/>
            <a:ext cx="266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5943240" y="5459400"/>
            <a:ext cx="1728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правлени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093080" y="510552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39160" y="5154480"/>
            <a:ext cx="3711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08000" y="367344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мещение в ОС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 направлению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аданных воз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059280" y="4829040"/>
            <a:ext cx="1618920" cy="1043280"/>
          </a:xfrm>
          <a:custGeom>
            <a:avLst/>
            <a:gdLst/>
            <a:ahLst/>
            <a:rect l="l" t="t" r="r" b="b"/>
            <a:pathLst>
              <a:path w="1089" h="544">
                <a:moveTo>
                  <a:pt x="0" y="0"/>
                </a:moveTo>
                <a:lnTo>
                  <a:pt x="1089" y="0"/>
                </a:lnTo>
                <a:lnTo>
                  <a:pt x="1089" y="544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506840" y="5783400"/>
            <a:ext cx="22320" cy="137880"/>
          </a:xfrm>
          <a:custGeom>
            <a:avLst/>
            <a:gdLst/>
            <a:ahLst/>
            <a:rect l="l" t="t" r="r" b="b"/>
            <a:pathLst>
              <a:path w="14" h="87">
                <a:moveTo>
                  <a:pt x="0" y="87"/>
                </a:moveTo>
                <a:lnTo>
                  <a:pt x="14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82960" y="5253120"/>
            <a:ext cx="43200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909960" y="5316480"/>
            <a:ext cx="3715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751200" y="44751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70200" y="4581360"/>
            <a:ext cx="71640" cy="201600"/>
          </a:xfrm>
          <a:custGeom>
            <a:avLst/>
            <a:gdLst>
              <a:gd name="textAreaLeft" fmla="*/ 45720 w 71640"/>
              <a:gd name="textAreaRight" fmla="*/ 72000 w 71640"/>
              <a:gd name="textAreaTop" fmla="*/ 5040 h 201600"/>
              <a:gd name="textAreaBottom" fmla="*/ 196560 h 20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38560" y="4560840"/>
            <a:ext cx="1446120" cy="1203480"/>
          </a:xfrm>
          <a:custGeom>
            <a:avLst/>
            <a:gdLst/>
            <a:ahLst/>
            <a:rect l="l" t="t" r="r" b="b"/>
            <a:pathLst>
              <a:path w="911" h="758">
                <a:moveTo>
                  <a:pt x="0" y="53"/>
                </a:moveTo>
                <a:cubicBezTo>
                  <a:pt x="23" y="48"/>
                  <a:pt x="83" y="32"/>
                  <a:pt x="138" y="23"/>
                </a:cubicBezTo>
                <a:cubicBezTo>
                  <a:pt x="193" y="14"/>
                  <a:pt x="260" y="0"/>
                  <a:pt x="330" y="2"/>
                </a:cubicBezTo>
                <a:cubicBezTo>
                  <a:pt x="400" y="4"/>
                  <a:pt x="486" y="18"/>
                  <a:pt x="558" y="38"/>
                </a:cubicBezTo>
                <a:cubicBezTo>
                  <a:pt x="630" y="58"/>
                  <a:pt x="705" y="93"/>
                  <a:pt x="764" y="121"/>
                </a:cubicBezTo>
                <a:cubicBezTo>
                  <a:pt x="823" y="149"/>
                  <a:pt x="832" y="161"/>
                  <a:pt x="911" y="207"/>
                </a:cubicBezTo>
                <a:cubicBezTo>
                  <a:pt x="868" y="273"/>
                  <a:pt x="863" y="281"/>
                  <a:pt x="844" y="325"/>
                </a:cubicBezTo>
                <a:cubicBezTo>
                  <a:pt x="826" y="371"/>
                  <a:pt x="808" y="428"/>
                  <a:pt x="804" y="482"/>
                </a:cubicBezTo>
                <a:cubicBezTo>
                  <a:pt x="800" y="536"/>
                  <a:pt x="820" y="604"/>
                  <a:pt x="822" y="650"/>
                </a:cubicBezTo>
                <a:cubicBezTo>
                  <a:pt x="824" y="696"/>
                  <a:pt x="817" y="736"/>
                  <a:pt x="816" y="7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071520" y="4656960"/>
            <a:ext cx="138600" cy="39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6680" y="5888160"/>
            <a:ext cx="216000" cy="7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76680" y="58881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735600">
            <a:off x="4379760" y="5950080"/>
            <a:ext cx="216000" cy="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384800" y="5931000"/>
            <a:ext cx="21564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00720" y="596412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83240" y="589752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500720" y="6141960"/>
            <a:ext cx="1792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56000" y="4821120"/>
            <a:ext cx="1368360" cy="1656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a9a90"/>
              </a:gs>
              <a:gs pos="100000">
                <a:srgbClr val="ffffcc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2746080" y="5478480"/>
            <a:ext cx="1728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правлени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4586040" y="51055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548240" y="52484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4533840" y="5392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4552920" y="5537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4653000" y="4970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95640" y="4097160"/>
            <a:ext cx="1455480" cy="584280"/>
          </a:xfrm>
          <a:custGeom>
            <a:avLst/>
            <a:gdLst/>
            <a:ahLst/>
            <a:rect l="l" t="t" r="r" b="b"/>
            <a:pathLst>
              <a:path w="819" h="269">
                <a:moveTo>
                  <a:pt x="0" y="0"/>
                </a:moveTo>
                <a:cubicBezTo>
                  <a:pt x="8" y="10"/>
                  <a:pt x="22" y="42"/>
                  <a:pt x="45" y="63"/>
                </a:cubicBezTo>
                <a:cubicBezTo>
                  <a:pt x="68" y="84"/>
                  <a:pt x="98" y="110"/>
                  <a:pt x="141" y="129"/>
                </a:cubicBezTo>
                <a:cubicBezTo>
                  <a:pt x="184" y="148"/>
                  <a:pt x="238" y="163"/>
                  <a:pt x="303" y="177"/>
                </a:cubicBezTo>
                <a:cubicBezTo>
                  <a:pt x="368" y="191"/>
                  <a:pt x="462" y="205"/>
                  <a:pt x="531" y="216"/>
                </a:cubicBezTo>
                <a:cubicBezTo>
                  <a:pt x="600" y="227"/>
                  <a:pt x="672" y="237"/>
                  <a:pt x="720" y="246"/>
                </a:cubicBezTo>
                <a:cubicBezTo>
                  <a:pt x="768" y="255"/>
                  <a:pt x="799" y="264"/>
                  <a:pt x="819" y="269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78280" y="5492880"/>
            <a:ext cx="504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427640" y="6151680"/>
            <a:ext cx="5032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34800" y="2690640"/>
                <a:ext cx="459756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  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973080" y="3571920"/>
            <a:ext cx="719280" cy="1081080"/>
          </a:xfrm>
          <a:prstGeom prst="upArrow">
            <a:avLst>
              <a:gd name="adj1" fmla="val 50000"/>
              <a:gd name="adj2" fmla="val 37575"/>
            </a:avLst>
          </a:prstGeom>
          <a:solidFill>
            <a:srgbClr val="bbe0e3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7960" y="4660920"/>
            <a:ext cx="251964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Канон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метода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535800" y="34606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802480" y="3024360"/>
            <a:ext cx="53640" cy="5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408640" y="24670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2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3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4" dur="8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440"/>
                            </p:stCondLst>
                            <p:childTnLst>
                              <p:par>
                                <p:cTn id="17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2440"/>
                            </p:stCondLst>
                            <p:childTnLst>
                              <p:par>
                                <p:cTn id="17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4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5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6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3520"/>
                            </p:stCondLst>
                            <p:childTnLst>
                              <p:par>
                                <p:cTn id="17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0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00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6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2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2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6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2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3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8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51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5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8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6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0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6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2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2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9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4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5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6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0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8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9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0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280"/>
                            </p:stCondLst>
                            <p:childTnLst>
                              <p:par>
                                <p:cTn id="19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5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5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03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fill="hold">
                            <p:stCondLst>
                              <p:cond delay="4280"/>
                            </p:stCondLst>
                            <p:childTnLst>
                              <p:par>
                                <p:cTn id="20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5280"/>
                            </p:stCondLst>
                            <p:childTnLst>
                              <p:par>
                                <p:cTn id="20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1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1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17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6280"/>
                            </p:stCondLst>
                            <p:childTnLst>
                              <p:par>
                                <p:cTn id="20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fill="hold">
                            <p:stCondLst>
                              <p:cond delay="6780"/>
                            </p:stCondLst>
                            <p:childTnLst>
                              <p:par>
                                <p:cTn id="20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7780"/>
                            </p:stCondLst>
                            <p:childTnLst>
                              <p:par>
                                <p:cTn id="20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7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8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9" dur="8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8780"/>
                            </p:stCondLst>
                            <p:childTnLst>
                              <p:par>
                                <p:cTn id="20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6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51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1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2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3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7680" y="260280"/>
            <a:ext cx="8620200" cy="39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900000" y="1531800"/>
                <a:ext cx="727236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Σ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k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Σ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/>
                            <m:e/>
                            <m:e/>
                            <m:e/>
                            <m:e/>
                            <m:e/>
                            <m:e/>
                          </m:mr>
                          <m:m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iΣ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/>
                            <m:e/>
                            <m:e/>
                            <m:e/>
                            <m:e/>
                            <m:e/>
                            <m:e/>
                          </m:mr>
                          <m:m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k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nΣ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3" name=""/>
          <p:cNvSpPr/>
          <p:nvPr/>
        </p:nvSpPr>
        <p:spPr>
          <a:xfrm>
            <a:off x="1209600" y="2128680"/>
            <a:ext cx="68914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. . . . . . . . . . . . . . . .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209600" y="2725560"/>
            <a:ext cx="68914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. . . . . . . . . . . . . . . . . . . . . . . . . . . . . . . . . . . . . . . .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82920" y="666720"/>
            <a:ext cx="4176720" cy="746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2486160" y="587520"/>
                <a:ext cx="41734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  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 flipV="1">
            <a:off x="4284720" y="1379520"/>
            <a:ext cx="574560" cy="203040"/>
          </a:xfrm>
          <a:prstGeom prst="upArrow">
            <a:avLst>
              <a:gd name="adj1" fmla="val 54148"/>
              <a:gd name="adj2" fmla="val 82296"/>
            </a:avLst>
          </a:prstGeom>
          <a:solidFill>
            <a:srgbClr val="bbe0e3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5360" y="3424320"/>
            <a:ext cx="85946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. Система канонических уравнений метода сил (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УМС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) в целом выражает </a:t>
            </a: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усл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кинематической эквивалентности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рассчитываемой СНС  и  основной системы 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ри заданных воздействиях и истинных основных неизвестных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25360" y="4711680"/>
            <a:ext cx="8739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13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3. Свободный член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i-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о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КУМС –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перемещение в ОСМС по направлению 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-го основ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   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неизвестного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 или,  что то же самое,  по направлению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й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далённой лишней свя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от заданных воздействий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иловых, температурных, кинематических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25360" y="5367240"/>
            <a:ext cx="87393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13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4. Слагаемое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 Narrow"/>
              </a:rPr>
              <a:t>ik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-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о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анонического уравнения –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перемещение в ОСМС по нап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   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-го основного неизвестного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 направлению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й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далённой лишней связи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от основ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   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ного неизвестного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еакци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й удалённой лишней связи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5360" y="5989680"/>
            <a:ext cx="87393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0000"/>
              </a:lnSpc>
              <a:spcBef>
                <a:spcPts val="113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5. Коэффициент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 Narrow"/>
              </a:rPr>
              <a:t>ik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 неизвестном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-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каноническом уравнении –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переме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   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в ОСМС по направлению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-го основного неизвестного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 направлению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й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далё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лишней связи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от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 Narrow"/>
              </a:rPr>
              <a:t>единичного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-го основного неизвестного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 </a:t>
            </a:r>
            <a:r>
              <a:rPr b="1" i="1" lang="en-US" sz="1800" spc="-1" strike="noStrike">
                <a:solidFill>
                  <a:srgbClr val="a50021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a50021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a50021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= 1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25360" y="4043520"/>
            <a:ext cx="87393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6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-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е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каноническое уравнение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отрицает полное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овместное от заданных воздействи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сех основных неизвестны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перемещение в ОСМС по направлению 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-го основ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   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неизвестного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 или,  что то же самое,  по направлению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й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далённой лишней связ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fill="hold">
                      <p:stCondLst>
                        <p:cond delay="0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1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6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7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8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3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4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5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0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1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2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7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8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9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4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5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6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7680" y="260280"/>
            <a:ext cx="8620200" cy="392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анонические уравнения метода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482920" y="666720"/>
            <a:ext cx="4176720" cy="746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2486160" y="587520"/>
                <a:ext cx="41734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  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 flipV="1">
            <a:off x="4284720" y="1281240"/>
            <a:ext cx="574560" cy="358560"/>
          </a:xfrm>
          <a:prstGeom prst="upArrow">
            <a:avLst>
              <a:gd name="adj1" fmla="val 45306"/>
              <a:gd name="adj2" fmla="val 46458"/>
            </a:avLst>
          </a:prstGeom>
          <a:solidFill>
            <a:srgbClr val="bbe0e3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992240" y="5025960"/>
            <a:ext cx="3024360" cy="13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spcBef>
                <a:spcPts val="113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матрица внешней упру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spcBef>
                <a:spcPts val="113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податливости ОС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 направл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новных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еизвестных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вадратная размерам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987640" y="15098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матричн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602160" y="1882800"/>
                <a:ext cx="19447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1" name=""/>
          <p:cNvSpPr/>
          <p:nvPr/>
        </p:nvSpPr>
        <p:spPr>
          <a:xfrm flipV="1">
            <a:off x="4284720" y="2289240"/>
            <a:ext cx="574560" cy="358560"/>
          </a:xfrm>
          <a:prstGeom prst="upArrow">
            <a:avLst>
              <a:gd name="adj1" fmla="val 45306"/>
              <a:gd name="adj2" fmla="val 46458"/>
            </a:avLst>
          </a:prstGeom>
          <a:solidFill>
            <a:srgbClr val="bbe0e3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3339360" y="3488760"/>
            <a:ext cx="139680" cy="2900160"/>
          </a:xfrm>
          <a:custGeom>
            <a:avLst/>
            <a:gdLst>
              <a:gd name="textAreaLeft" fmla="*/ 0 w 139680"/>
              <a:gd name="textAreaRight" fmla="*/ 50400 w 139680"/>
              <a:gd name="textAreaTop" fmla="*/ 75600 h 2900160"/>
              <a:gd name="textAreaBottom" fmla="*/ 2824560 h 29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rot="5400000">
            <a:off x="5277600" y="4580640"/>
            <a:ext cx="107640" cy="684000"/>
          </a:xfrm>
          <a:custGeom>
            <a:avLst/>
            <a:gdLst>
              <a:gd name="textAreaLeft" fmla="*/ 0 w 107640"/>
              <a:gd name="textAreaRight" fmla="*/ 38880 w 107640"/>
              <a:gd name="textAreaTop" fmla="*/ 17640 h 684000"/>
              <a:gd name="textAreaBottom" fmla="*/ 666360 h 6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5400000">
            <a:off x="6250680" y="4580640"/>
            <a:ext cx="107640" cy="684360"/>
          </a:xfrm>
          <a:custGeom>
            <a:avLst/>
            <a:gdLst>
              <a:gd name="textAreaLeft" fmla="*/ 0 w 107640"/>
              <a:gd name="textAreaRight" fmla="*/ 38880 w 107640"/>
              <a:gd name="textAreaTop" fmla="*/ 17640 h 684360"/>
              <a:gd name="textAreaBottom" fmla="*/ 666720 h 6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16200000">
            <a:off x="4641120" y="5517000"/>
            <a:ext cx="1441440" cy="6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6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в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осн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неизвестных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062680" y="5000760"/>
            <a:ext cx="504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097680" y="4978440"/>
            <a:ext cx="279540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в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1" lang="ru-RU" sz="1800" spc="-1" strike="noStrike">
                <a:solidFill>
                  <a:srgbClr val="333399"/>
                </a:solidFill>
                <a:latin typeface="Arial Narrow"/>
              </a:rPr>
              <a:t>перемещений в ОС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 направл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новных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еизвестных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заданных воздействий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55960" y="3357720"/>
            <a:ext cx="2732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. . . . . . . . . . . . .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050920" y="4089240"/>
            <a:ext cx="2732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. . . . . . . . . . . . . . .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941480" y="2495520"/>
                <a:ext cx="5256360" cy="237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/>
                                <m:e/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/>
                                <m:e/>
                                <m:e/>
                                <m:e/>
                                <m:e/>
                                <m:e/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…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Σ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Σ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Σ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nΣ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7" dur="indefinite" restart="never" nodeType="tmRoot">
          <p:childTnLst>
            <p:seq>
              <p:cTn id="2128" dur="indefinite" nodeType="mainSeq">
                <p:childTnLst>
                  <p:par>
                    <p:cTn id="2129" fill="hold">
                      <p:stCondLst>
                        <p:cond delay="0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8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4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5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6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1680"/>
                            </p:stCondLst>
                            <p:childTnLst>
                              <p:par>
                                <p:cTn id="2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1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6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1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8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2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3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9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0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1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2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3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4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6:55:03Z</dcterms:created>
  <dc:creator>User</dc:creator>
  <dc:description/>
  <dc:language>en-US</dc:language>
  <cp:lastModifiedBy>Владимир Себешев</cp:lastModifiedBy>
  <dcterms:modified xsi:type="dcterms:W3CDTF">2011-02-16T10:21:28Z</dcterms:modified>
  <cp:revision>59</cp:revision>
  <dc:subject/>
  <dc:title>Слайд 1</dc:title>
</cp:coreProperties>
</file>